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9.png" ContentType="image/png"/>
  <Override PartName="/ppt/media/image100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3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66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2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52.jpeg" ContentType="image/jpeg"/>
  <Override PartName="/ppt/media/image1.png" ContentType="image/png"/>
  <Override PartName="/ppt/media/image8.png" ContentType="image/png"/>
  <Override PartName="/ppt/media/image82.jpeg" ContentType="image/jpeg"/>
  <Override PartName="/ppt/media/image7.png" ContentType="image/png"/>
  <Override PartName="/ppt/media/image19.png" ContentType="image/png"/>
  <Override PartName="/ppt/media/image11.png" ContentType="image/png"/>
  <Override PartName="/ppt/media/image108.png" ContentType="image/png"/>
  <Override PartName="/ppt/media/image47.png" ContentType="image/png"/>
  <Override PartName="/ppt/media/image10.png" ContentType="image/png"/>
  <Override PartName="/ppt/media/image36.jpeg" ContentType="image/jpe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9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65.png" ContentType="image/png"/>
  <Override PartName="/ppt/media/image69.jpeg" ContentType="image/jpeg"/>
  <Override PartName="/ppt/media/image72.png" ContentType="image/png"/>
  <Override PartName="/ppt/media/image77.png" ContentType="image/png"/>
  <Override PartName="/ppt/media/image79.png" ContentType="image/png"/>
  <Override PartName="/ppt/media/image42.png" ContentType="image/png"/>
  <Override PartName="/ppt/media/image68.png" ContentType="image/png"/>
  <Override PartName="/ppt/media/image70.png" ContentType="image/png"/>
  <Override PartName="/ppt/media/image83.jpeg" ContentType="image/jpeg"/>
  <Override PartName="/ppt/media/image95.png" ContentType="image/png"/>
  <Override PartName="/ppt/media/image102.png" ContentType="image/png"/>
  <Override PartName="/ppt/media/image78.jpeg" ContentType="image/jpeg"/>
  <Override PartName="/ppt/media/image84.jpeg" ContentType="image/jpeg"/>
  <Override PartName="/ppt/media/image67.jpeg" ContentType="image/jpeg"/>
  <Override PartName="/ppt/media/image106.png" ContentType="image/png"/>
  <Override PartName="/ppt/media/image62.png" ContentType="image/png"/>
  <Override PartName="/ppt/media/image28.jpeg" ContentType="image/jpeg"/>
  <Override PartName="/ppt/media/image91.png" ContentType="image/png"/>
  <Override PartName="/ppt/media/image90.jpeg" ContentType="image/jpeg"/>
  <Override PartName="/ppt/media/image104.png" ContentType="image/png"/>
  <Override PartName="/ppt/media/image97.png" ContentType="image/png"/>
  <Override PartName="/ppt/media/image94.png" ContentType="image/png"/>
  <Override PartName="/ppt/media/image63.jpeg" ContentType="image/jpeg"/>
  <Override PartName="/ppt/media/image75.png" ContentType="image/png"/>
  <Override PartName="/ppt/media/image81.jpeg" ContentType="image/jpeg"/>
  <Override PartName="/ppt/media/image23.png" ContentType="image/png"/>
  <Override PartName="/ppt/media/image105.png" ContentType="image/png"/>
  <Override PartName="/ppt/media/image61.png" ContentType="image/png"/>
  <Override PartName="/ppt/media/image86.jpeg" ContentType="image/jpeg"/>
  <Override PartName="/ppt/media/image103.png" ContentType="image/png"/>
  <Override PartName="/ppt/media/image96.png" ContentType="image/png"/>
  <Override PartName="/ppt/media/image71.jpeg" ContentType="image/jpeg"/>
  <Override PartName="/ppt/media/image88.png" ContentType="image/png"/>
  <Override PartName="/ppt/media/image93.png" ContentType="image/png"/>
  <Override PartName="/ppt/media/image14.png" ContentType="image/png"/>
  <Override PartName="/ppt/media/image87.png" ContentType="image/png"/>
  <Override PartName="/ppt/media/image64.png" ContentType="image/png"/>
  <Override PartName="/ppt/media/image60.jpeg" ContentType="image/jpeg"/>
  <Override PartName="/ppt/media/image26.jpeg" ContentType="image/jpeg"/>
  <Override PartName="/ppt/media/image101.png" ContentType="image/png"/>
  <Override PartName="/ppt/media/image85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89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73.jpeg" ContentType="image/jpeg"/>
  <Override PartName="/ppt/media/image24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9.jpeg" ContentType="image/jpeg"/>
  <Override PartName="/ppt/media/image92.png" ContentType="image/png"/>
  <Override PartName="/ppt/media/image27.png" ContentType="image/png"/>
  <Override PartName="/ppt/media/image16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6858000" cy="9144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A4B-72F1-4772-A1D7-FCC3818F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211-5169-4CD6-92BF-487332E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4D1-6965-4509-AF5E-9664AA22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36B-29AD-4570-9577-43FECCFF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B68-E8C4-4CCF-8568-251A305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198-DC68-4704-ABA3-AAA83BC4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893-80A4-4FE9-8C02-F6ECF6B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0C4-3AE8-4257-B06E-7CAF2ACC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3EF-31F4-4A53-8B6B-BA218FDB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20E-A9F3-4539-9673-799A842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79C-A6F4-4BEB-8EE0-F88A943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220-A22B-4A34-81AE-5DDF453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562-F229-4500-947D-AC3A749E106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2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1280" y="723888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뉴론 데이터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57160" y="518076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2002. 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51560" y="1221120"/>
            <a:ext cx="2703960" cy="6933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Univers"/>
                <a:ea typeface="굴림체"/>
              </a:rPr>
              <a:t>인사급여 관리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1540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760" y="1357200"/>
            <a:ext cx="20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뉴에 나오는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CON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설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ICON-1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4038840" cy="758880"/>
          </a:xfrm>
          <a:prstGeom prst="rect">
            <a:avLst/>
          </a:prstGeom>
          <a:ln w="0">
            <a:noFill/>
          </a:ln>
        </p:spPr>
      </p:pic>
      <p:pic>
        <p:nvPicPr>
          <p:cNvPr id="116" name="맨처음" descr=""/>
          <p:cNvPicPr/>
          <p:nvPr/>
        </p:nvPicPr>
        <p:blipFill>
          <a:blip r:embed="rId2"/>
          <a:stretch/>
        </p:blipFill>
        <p:spPr>
          <a:xfrm>
            <a:off x="1066680" y="375444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끝으로" descr=""/>
          <p:cNvPicPr/>
          <p:nvPr/>
        </p:nvPicPr>
        <p:blipFill>
          <a:blip r:embed="rId3"/>
          <a:stretch/>
        </p:blipFill>
        <p:spPr>
          <a:xfrm>
            <a:off x="1066680" y="533412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닫기" descr=""/>
          <p:cNvPicPr/>
          <p:nvPr/>
        </p:nvPicPr>
        <p:blipFill>
          <a:blip r:embed="rId4"/>
          <a:stretch/>
        </p:blipFill>
        <p:spPr>
          <a:xfrm>
            <a:off x="1066680" y="8021520"/>
            <a:ext cx="45432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뒤로" descr=""/>
          <p:cNvPicPr/>
          <p:nvPr/>
        </p:nvPicPr>
        <p:blipFill>
          <a:blip r:embed="rId5"/>
          <a:stretch/>
        </p:blipFill>
        <p:spPr>
          <a:xfrm>
            <a:off x="1066680" y="482112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삭제" descr=""/>
          <p:cNvPicPr/>
          <p:nvPr/>
        </p:nvPicPr>
        <p:blipFill>
          <a:blip r:embed="rId6"/>
          <a:stretch/>
        </p:blipFill>
        <p:spPr>
          <a:xfrm>
            <a:off x="1066680" y="6421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앞으로" descr=""/>
          <p:cNvPicPr/>
          <p:nvPr/>
        </p:nvPicPr>
        <p:blipFill>
          <a:blip r:embed="rId7"/>
          <a:stretch/>
        </p:blipFill>
        <p:spPr>
          <a:xfrm>
            <a:off x="1066680" y="426708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저장" descr=""/>
          <p:cNvPicPr/>
          <p:nvPr/>
        </p:nvPicPr>
        <p:blipFill>
          <a:blip r:embed="rId8"/>
          <a:stretch/>
        </p:blipFill>
        <p:spPr>
          <a:xfrm>
            <a:off x="1066680" y="695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큰프린터" descr=""/>
          <p:cNvPicPr/>
          <p:nvPr/>
        </p:nvPicPr>
        <p:blipFill>
          <a:blip r:embed="rId9"/>
          <a:stretch/>
        </p:blipFill>
        <p:spPr>
          <a:xfrm>
            <a:off x="1066680" y="7488360"/>
            <a:ext cx="44460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삽입" descr=""/>
          <p:cNvPicPr/>
          <p:nvPr/>
        </p:nvPicPr>
        <p:blipFill>
          <a:blip r:embed="rId10"/>
          <a:stretch/>
        </p:blipFill>
        <p:spPr>
          <a:xfrm>
            <a:off x="1066680" y="5888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1480" y="1855800"/>
            <a:ext cx="381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 관리시스템을 운영할 때 사용하는 아이콘은 다음과같은 기능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가지고 있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이콘은 모양이 같으면 같은 기능을 가지고 있으므로 다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뉴에서도 참조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3680" y="3809880"/>
            <a:ext cx="23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제일 처음데이타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42000" y="4327560"/>
            <a:ext cx="23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전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7560" y="4861080"/>
            <a:ext cx="246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다음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86640" y="5394240"/>
            <a:ext cx="26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가장 마지막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90320" y="5927760"/>
            <a:ext cx="30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 다음에 새로운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를  삽입할 경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78280" y="6461280"/>
            <a:ext cx="23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 있는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를  삭제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0360" y="700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현재의 내용을 파일로 저장한다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92960" y="7543800"/>
            <a:ext cx="135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를 프린터로 출력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58200" y="8061480"/>
            <a:ext cx="20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메뉴화면을 닫고 이전 메뉴로 돌아간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1396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8400" y="2438280"/>
            <a:ext cx="32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3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검색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담음과 같은  화면이 나오며 사원번호를 입력하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그 사원으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CON-3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2895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7200" y="4114800"/>
            <a:ext cx="392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5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선택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자료를 입력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부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직위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급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역종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등을 입력할 때 선택화면이 나타나 입력시 참고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920" y="5072040"/>
            <a:ext cx="33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10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전환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사원에 대한 자료를 개인별로 상세하게 입력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는 화면이 열린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33480" y="6039000"/>
            <a:ext cx="666720" cy="28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23760" y="2576520"/>
            <a:ext cx="657360" cy="257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14400" y="4257720"/>
            <a:ext cx="676440" cy="237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90680" y="6019920"/>
            <a:ext cx="34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4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개인화면에서 새로운 자료를 새로 추가할 수 있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1219320"/>
          <a:ext cx="48006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21932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47880" y="5181480"/>
          <a:ext cx="76176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7880" y="5181480"/>
                    <a:ext cx="761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1396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28880" y="1305000"/>
            <a:ext cx="514332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52760" cy="247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990720" cy="25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838080" y="4572000"/>
            <a:ext cx="885960" cy="24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838080" y="5410080"/>
            <a:ext cx="800280" cy="22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03280" y="2743200"/>
            <a:ext cx="28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4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월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전월 자료를 새로 복사받을 수 있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 키는 급여등록에서도 같은 기능을 수행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8840" y="3657600"/>
            <a:ext cx="31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5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근태합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한달간의 근무시간을 종류별로 합산하여 급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계산에 이용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5480" y="4495680"/>
            <a:ext cx="31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6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앞으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일별 근무시간 입력시 바로 앞 사원의 레코드로 이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5480" y="533412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7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뒤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일별 근무시간 입력시 바로 다음 사원의 레코드로 이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3880" y="7754760"/>
            <a:ext cx="32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6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계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현재 화면에 입력된 사원의 급여를 계산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38080" y="7800840"/>
            <a:ext cx="819360" cy="2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1219320" y="6400800"/>
          <a:ext cx="48006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40080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  초  작  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5" descr=""/>
          <p:cNvPicPr/>
          <p:nvPr/>
        </p:nvPicPr>
        <p:blipFill>
          <a:blip r:embed="rId1"/>
          <a:stretch/>
        </p:blipFill>
        <p:spPr>
          <a:xfrm>
            <a:off x="2171880" y="2286000"/>
            <a:ext cx="3238200" cy="3276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기초작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169" name=""/>
            <p:cNvGrpSpPr/>
            <p:nvPr/>
          </p:nvGrpSpPr>
          <p:grpSpPr>
            <a:xfrm>
              <a:off x="609480" y="232920"/>
              <a:ext cx="1333440" cy="1643760"/>
              <a:chOff x="609480" y="232920"/>
              <a:chExt cx="1333440" cy="1643760"/>
            </a:xfrm>
          </p:grpSpPr>
          <p:sp>
            <p:nvSpPr>
              <p:cNvPr id="170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2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4720" y="1125360"/>
                <a:ext cx="99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부서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27360" y="1600200"/>
                <a:ext cx="101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부서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175" name="flower3" descr=""/>
            <p:cNvPicPr/>
            <p:nvPr/>
          </p:nvPicPr>
          <p:blipFill>
            <a:blip r:embed="rId2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423800" y="6827760"/>
              <a:ext cx="2720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명은 회사의 모든 부서를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18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9800" y="1119240"/>
            <a:ext cx="9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직급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5680" y="1593720"/>
            <a:ext cx="10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직급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186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15160" y="6827760"/>
              <a:ext cx="2716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급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K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급명은 근무사원의 모든 직급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191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3" name="Image6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3200400" cy="3276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176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511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득 자격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1680" y="1593720"/>
            <a:ext cx="11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Image7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20040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02" name="flower3" descr=""/>
            <p:cNvPicPr/>
            <p:nvPr/>
          </p:nvPicPr>
          <p:blipFill>
            <a:blip r:embed="rId2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492200" y="6827760"/>
              <a:ext cx="279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격증 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J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격종목명은 근무사원의 취득자격증을 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12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금융기관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14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787760" y="6827760"/>
              <a:ext cx="350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은행코드는  숫자형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금융기관명은 근무사원들의 급여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상여를 지급하기위한 곳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19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1" name="Image8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32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건강보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832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건강보험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27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95320" y="6827760"/>
              <a:ext cx="329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상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미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표준액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험률을 입력하면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예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:0.017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동으로 보험료가 계산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고용보험률도 세법에 따라 변경된 경우 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건강보험과 고용보험은 급여계산에 이용되므로 개인이 부담해야 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험률을 정확하게 입력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5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32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2412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민연금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국민연금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40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671840" y="6827760"/>
              <a:ext cx="360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상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미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표준액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국민연금 세율을 입력하면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예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:0.0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동으로 국민연금이 계산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국민연금은 급여계산에 이용되므로 정확하게 입력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45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33680" y="2100240"/>
            <a:ext cx="4386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518760"/>
            <a:ext cx="3511440" cy="735840"/>
          </a:xfrm>
          <a:prstGeom prst="horizontalScroll">
            <a:avLst>
              <a:gd name="adj" fmla="val 14657"/>
            </a:avLst>
          </a:prstGeom>
          <a:gradFill rotWithShape="0">
            <a:gsLst>
              <a:gs pos="0">
                <a:srgbClr val="f7f9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굴림"/>
                <a:ea typeface="바탕"/>
              </a:rPr>
              <a:t>목         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6324480" cy="304920"/>
          </a:xfrm>
          <a:prstGeom prst="horizontalScroll">
            <a:avLst>
              <a:gd name="adj" fmla="val 20314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86000"/>
            <a:ext cx="43434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 관리 시스템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  <a:ea typeface="굴림체"/>
              </a:rPr>
              <a:t>인사급여 관리 시스템의 개요와 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CON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.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초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부서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직급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취득 자격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보험료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국민연금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회사 명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사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인사 입력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원 정보 조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학력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병력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격 면허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임직원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인사카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각종 증명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888480" y="1119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사명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11680" y="1593720"/>
            <a:ext cx="11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회사명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53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813680" y="6827760"/>
              <a:ext cx="3471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회사 사업장에 대한 정보를 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입력한 자료는 연말정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퇴직정산시 출력양식에 이용되므로 정확하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4495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3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인  사  관  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4953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264" name=""/>
            <p:cNvGrpSpPr/>
            <p:nvPr/>
          </p:nvGrpSpPr>
          <p:grpSpPr>
            <a:xfrm>
              <a:off x="609480" y="232920"/>
              <a:ext cx="1961640" cy="1643760"/>
              <a:chOff x="609480" y="232920"/>
              <a:chExt cx="1961640" cy="1643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3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1440" y="1125360"/>
                <a:ext cx="141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3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인사 입력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/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수정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14840" y="1600200"/>
                <a:ext cx="155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인사입력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/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수정 전체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인사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lower3" descr=""/>
          <p:cNvPicPr/>
          <p:nvPr/>
        </p:nvPicPr>
        <p:blipFill>
          <a:blip r:embed="rId1"/>
          <a:stretch/>
        </p:blipFill>
        <p:spPr>
          <a:xfrm>
            <a:off x="838080" y="52005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14400" y="5867280"/>
            <a:ext cx="538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의 임직원 및 일반사원을 관리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자료는 연말정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시 출력양식에 이용되므로 정확하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3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를 입력하면 그 사원의 자료를 보여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종 등을 입력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선택화면이 표시되어 입력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참조할 수 있도록 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1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개인별로 정보를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급적 정보를 빠짐없이 입력하여야 정확한 결과를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위 등은 기초등록의 자료를 이용하여 선택하는 것이므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화면에서 이미 입력된 자료를 수정하면 안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을 두종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구분할 경우 사원번호를 이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나눌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0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 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까지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000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까지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로 나누어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5638680"/>
            <a:ext cx="548640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95280" y="5276880"/>
            <a:ext cx="609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27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4724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01440" y="1219320"/>
            <a:ext cx="191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3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검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Image13-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3733920" cy="2444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53720" y="5105520"/>
            <a:ext cx="191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선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13-2" descr=""/>
          <p:cNvPicPr/>
          <p:nvPr/>
        </p:nvPicPr>
        <p:blipFill>
          <a:blip r:embed="rId2"/>
          <a:stretch/>
        </p:blipFill>
        <p:spPr>
          <a:xfrm>
            <a:off x="1905120" y="5638680"/>
            <a:ext cx="38862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28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원 정보 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16880" y="15937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원정보 조회 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92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814040" y="6827760"/>
              <a:ext cx="3558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자료를 조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하고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먼저 검색조건을 설정하면 조건 화면이 열린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원하는 조건을 클릭하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검색버튼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돋보기 모양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을 누르면 화면에 자료가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 화면에서는 자료는 수정하지 않고 단지 조회와 인쇄만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료를 수정할 경우는 인사 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화면에서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9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48960" y="121932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1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세보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04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학력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12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13240" y="6827760"/>
              <a:ext cx="3607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학력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별로 지정해서 출력조건을 지정할 수 있으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것도 지정하지 않으면 전부 출력하게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지 않으면 전 사원을 대상으로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5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쇄하기 전에 화면인쇄를 통해 화면에 미리보기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1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345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7000" y="114300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출력시  출력옵션을 선택한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Image23" descr=""/>
          <p:cNvPicPr/>
          <p:nvPr/>
        </p:nvPicPr>
        <p:blipFill>
          <a:blip r:embed="rId1"/>
          <a:stretch/>
        </p:blipFill>
        <p:spPr>
          <a:xfrm>
            <a:off x="1905120" y="563868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88360" y="510552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26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928880" y="1695600"/>
            <a:ext cx="3862440" cy="302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257800" y="37339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2880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병력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병력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3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26560" y="6827760"/>
              <a:ext cx="3607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병력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별로 지정해서 출력조건을 지정할 수 있으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것도 지정하지 않으면 전부 출력하게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4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3733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병력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Image2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33526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48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057400"/>
            <a:ext cx="2895840" cy="49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관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원 근태사항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각종 수당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여금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여금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봉투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명세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별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0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기간별 총액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.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사원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격면허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면허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5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50320" y="6827760"/>
              <a:ext cx="351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자격면허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하고자 하는 자격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면허코드를 지정하여 종류별로 출력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94120" y="1143000"/>
            <a:ext cx="15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 면허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Image18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1148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68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6228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임직원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78280" y="15937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임직원 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7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739160" y="6827760"/>
              <a:ext cx="35316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임직원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하고자 하는 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을 지정하여 종류별로 출력하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것도 지정하지 않으면 전부 출력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8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814400" y="2057400"/>
            <a:ext cx="41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24360" y="1143000"/>
            <a:ext cx="168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임직원 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8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Image19-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19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사카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카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9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50320" y="6827760"/>
              <a:ext cx="351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인사카드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근무사원의 자료를 개인별로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0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카드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0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4647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6228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종 증명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8280" y="15937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증명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838080" y="5486400"/>
            <a:ext cx="5867640" cy="3607200"/>
            <a:chOff x="838080" y="5486400"/>
            <a:chExt cx="5867640" cy="3607200"/>
          </a:xfrm>
        </p:grpSpPr>
        <p:pic>
          <p:nvPicPr>
            <p:cNvPr id="41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5486400"/>
              <a:ext cx="304920" cy="3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749960" y="6293160"/>
              <a:ext cx="3636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필요시 재직 증명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경력 증명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퇴직 증명서를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증명서 종류를 선택하고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면 그 사원의 자료가 화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에 나타나고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면 기본적인 내용이 화면에 나타나고  화면에서 바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하여 인쇄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4400" y="5955120"/>
              <a:ext cx="5486400" cy="243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1295280" y="5580000"/>
              <a:ext cx="609840" cy="374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38080" y="8862480"/>
              <a:ext cx="5867640" cy="231120"/>
              <a:chOff x="838080" y="8862480"/>
              <a:chExt cx="5867640" cy="231120"/>
            </a:xfrm>
          </p:grpSpPr>
          <p:sp>
            <p:nvSpPr>
              <p:cNvPr id="420" name=""/>
              <p:cNvSpPr/>
              <p:nvPr/>
            </p:nvSpPr>
            <p:spPr>
              <a:xfrm>
                <a:off x="838080" y="886248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23920" y="886248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4724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325160" y="1143000"/>
            <a:ext cx="263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증명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경력증명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2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Image27-1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343400" cy="2438640"/>
          </a:xfrm>
          <a:prstGeom prst="rect">
            <a:avLst/>
          </a:prstGeom>
          <a:ln w="0">
            <a:noFill/>
          </a:ln>
        </p:spPr>
      </p:pic>
      <p:pic>
        <p:nvPicPr>
          <p:cNvPr id="430" name="경력증명서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급  여  관  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434" name=""/>
            <p:cNvGrpSpPr/>
            <p:nvPr/>
          </p:nvGrpSpPr>
          <p:grpSpPr>
            <a:xfrm>
              <a:off x="609480" y="232920"/>
              <a:ext cx="1907280" cy="1643760"/>
              <a:chOff x="609480" y="232920"/>
              <a:chExt cx="1907280" cy="1643760"/>
            </a:xfrm>
          </p:grpSpPr>
          <p:sp>
            <p:nvSpPr>
              <p:cNvPr id="435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4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1320" y="1125360"/>
                <a:ext cx="151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4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사원 근태사항 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56240" y="1600200"/>
                <a:ext cx="146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사원 근태사항 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급여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flower3" descr=""/>
          <p:cNvPicPr/>
          <p:nvPr/>
        </p:nvPicPr>
        <p:blipFill>
          <a:blip r:embed="rId1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06840" y="6570720"/>
            <a:ext cx="3669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조 및 생산에 근무하는 사원들의 근태사항을 기록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와 월을 지정해주면 근태사원으로 등록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t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르면 그날의 근무시간을 입력하는 곳으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원하는 사원번호로 이동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시간별로 근태수당을 계산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내용은 급여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표시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현재 위치에서 전사원으로 이동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현재 위치에서 다음 사원으로 이동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95280" y="6248520"/>
            <a:ext cx="60984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4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Image29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057400"/>
            <a:ext cx="31244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과세표준세율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과세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세액공제 산출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기초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득세 납세필 증명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원천징수 이행상황신고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득자료 제출집계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타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정리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복구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ACKUP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3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OS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변환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환경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336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3132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종 수당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159372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수당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53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696320" y="6827760"/>
              <a:ext cx="3234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과세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K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은 과세항목중 비과세로 지정되는 경우에만 표시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그러므로 급여계산을 하기전에 필요한 과세항목은 반드시 등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을 해주어야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58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1245600" y="342900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과세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Image31" descr=""/>
          <p:cNvPicPr/>
          <p:nvPr/>
        </p:nvPicPr>
        <p:blipFill>
          <a:blip r:embed="rId2"/>
          <a:stretch/>
        </p:blipFill>
        <p:spPr>
          <a:xfrm>
            <a:off x="2295360" y="3753000"/>
            <a:ext cx="2971800" cy="2342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2971800" y="18288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66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605960" y="6827760"/>
              <a:ext cx="364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과세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에는 차량유지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C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대문자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식대에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대문자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를 입력해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연말정산시 비과세 공제를 받을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71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1127520" y="12193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비과세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78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848960" y="6827760"/>
              <a:ext cx="3344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내공제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G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내공제 항목은 급여 지급시 차감되는 부분이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그러므로 급여계산시 미리 등록여부를 체크한 다음 급여계산화면으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동하여 급여계산을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83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157760" y="12193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내공제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Image3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90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56080" y="6827760"/>
              <a:ext cx="3326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소득공제 항목코드는 숫자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은 입력하지 않아도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(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OS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용에서만 사용되었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급여계산시 인원수를 입력하면 이곳에 등록된 공제액만큼 연말정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시 세액공제를 받는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공제금액은 세법에 따라 바뀌는 경우 새로 수정해 주어야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95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1157760" y="12193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공제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Image37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35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3132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여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7680" y="159372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 등록 계산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flower3" descr=""/>
          <p:cNvPicPr/>
          <p:nvPr/>
        </p:nvPicPr>
        <p:blipFill>
          <a:blip r:embed="rId1"/>
          <a:stretch/>
        </p:blipFill>
        <p:spPr>
          <a:xfrm>
            <a:off x="990720" y="578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792440" y="6172200"/>
            <a:ext cx="4063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 등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에서는 입력한 달의 급여를 계산하는 곳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먼저 급여 지급 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을 입력해준 다음 엔터키를 누르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월급여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사할 것인지 물어보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선택을 하면 잠시후에 화면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첫번째 사원의 자료가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원의 자료가 바뀐 겨우 반드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갱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갱신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를 지급할 경우 상여율과 배분월을 입력해 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엔터를 누르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지급 기준이 화면에 나타나고 이를 선택한 다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S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만일 사원의 이름이 나타난 상태에서 전달급여를 복사할 경우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월복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해 급여를 복사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근태등록는 생산직 사원일 경우에만 나타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급을 입력하면 근태수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계산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료보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민연금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글자의 색이 녹색인 부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음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-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면 자동계산을 해주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기로도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다입력한 다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6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버튼을 눌러 계산을 완료한 후 저장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6124680"/>
            <a:ext cx="5486400" cy="26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447920" y="5862600"/>
            <a:ext cx="60948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990720" y="8915400"/>
            <a:ext cx="5867280" cy="231120"/>
            <a:chOff x="990720" y="8915400"/>
            <a:chExt cx="5867280" cy="231120"/>
          </a:xfrm>
        </p:grpSpPr>
        <p:sp>
          <p:nvSpPr>
            <p:cNvPr id="508" name=""/>
            <p:cNvSpPr/>
            <p:nvPr/>
          </p:nvSpPr>
          <p:spPr>
            <a:xfrm>
              <a:off x="99072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584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28600" y="2437560"/>
            <a:ext cx="1066680" cy="363960"/>
          </a:xfrm>
          <a:prstGeom prst="wedgeRoundRectCallout">
            <a:avLst>
              <a:gd name="adj1" fmla="val 105800"/>
              <a:gd name="adj2" fmla="val -10503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퇴직자를 화면에 표시할 경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2114280"/>
            <a:ext cx="914400" cy="495720"/>
          </a:xfrm>
          <a:prstGeom prst="wedgeRoundRectCallout">
            <a:avLst>
              <a:gd name="adj1" fmla="val -100490"/>
              <a:gd name="adj2" fmla="val 4425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상여율과 배분월을 입력하면 보너스 지급기준이 나타난다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ay1" descr=""/>
          <p:cNvPicPr/>
          <p:nvPr/>
        </p:nvPicPr>
        <p:blipFill>
          <a:blip r:embed="rId2"/>
          <a:stretch/>
        </p:blipFill>
        <p:spPr>
          <a:xfrm>
            <a:off x="1600200" y="18907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513" name="pay2" descr=""/>
          <p:cNvPicPr/>
          <p:nvPr/>
        </p:nvPicPr>
        <p:blipFill>
          <a:blip r:embed="rId3"/>
          <a:stretch/>
        </p:blipFill>
        <p:spPr>
          <a:xfrm>
            <a:off x="2514600" y="327672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517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530000" y="6827760"/>
              <a:ext cx="3962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8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속득공제인원의 입력은 연말정산 기초 입력에서 해주어도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8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커서의 위치에 상관없이 계산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9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다음 사원으로의 이동은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F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검색 버튼과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PgDn, PgUp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키를 사용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0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새로운 직원이 입사하거나 삭제한 경우에는 반드시 인사갱신버튼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눌러 자료를 정리한 다음 급여를 계산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급여와 상여가 같이 지급되는 경우도 이 화면에서 계산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522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1182960" y="1219320"/>
            <a:ext cx="15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너스 지급기준 선택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Image411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3733920" cy="2614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금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09160" y="1593720"/>
            <a:ext cx="13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flower3" descr=""/>
          <p:cNvPicPr/>
          <p:nvPr/>
        </p:nvPicPr>
        <p:blipFill>
          <a:blip r:embed="rId2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949760" y="6629400"/>
            <a:ext cx="363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금 등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에서는 급여가 지급된 달에서 상여를 따로 지급할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분월을 정해주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너지 지급기준을 선택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보너스 지급기준에서 정해준 내용에 따라 상여금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금의 경우 수기로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3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638680" y="4266720"/>
            <a:ext cx="990720" cy="626760"/>
          </a:xfrm>
          <a:prstGeom prst="wedgeRoundRectCallout">
            <a:avLst>
              <a:gd name="adj1" fmla="val -80435"/>
              <a:gd name="adj2" fmla="val 4532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선택한 달까지의 과세표준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산출세액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세액공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나타난다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2088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여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05640" y="15937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49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3143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56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Image4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금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11400" y="1593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6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1068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1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관리시스템 개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7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Image45-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21960" y="1119240"/>
            <a:ext cx="15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06000" y="159372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8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182960" y="1143000"/>
            <a:ext cx="17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94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Image44-1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191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14760" y="1119240"/>
            <a:ext cx="147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명세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00240" y="1593720"/>
            <a:ext cx="168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명세서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0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821600" y="6629400"/>
            <a:ext cx="297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옵션에서 원하는 출력형태를 선택하여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를 입력하지 않으면 전 사원을 대상으로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82960" y="1143000"/>
            <a:ext cx="17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명세서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13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Image46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581640" cy="2514600"/>
          </a:xfrm>
          <a:prstGeom prst="rect">
            <a:avLst/>
          </a:prstGeom>
          <a:ln w="0">
            <a:noFill/>
          </a:ln>
        </p:spPr>
      </p:pic>
      <p:pic>
        <p:nvPicPr>
          <p:cNvPr id="616" name="Image44-2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956520" y="1119240"/>
            <a:ext cx="13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9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금융기관별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36240" y="159372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별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2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803960" y="6629400"/>
            <a:ext cx="292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행별 급여지급내역을 인쇄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218960" y="114300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별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33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Image45-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965160" y="111924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10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간별 총액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41640" y="1593720"/>
            <a:ext cx="15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간별 총액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4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기간을 지정된 월만큼 합계를 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부서를 지정하지 않으면 전부 출력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157760" y="114300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간별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52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4" name="Image45-7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5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퇴  직  정  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5105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357200"/>
            <a:ext cx="58676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SE CAM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리즈 중 인사급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프로그램은 모든 업체의 인적자원을 대상으로 반드시 필요한 전산화 업무인 동시에 기본적인 기업 관리 시스템 입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본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프로그램은 매월 반복 지급되는 급여와 정기적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또는 비정기적으로 지급되는 상여금에서 발생하는 원천징수 세액 계산을 효율적으로 관리하므로 변화하는 환경의 여건에 즉각적으로 대응 할 수 있는 합리적인 관리 시스템입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경영자를 위한 유용한 인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 보고서 등 다양한 보고서가 출력되기 때문에 어떤 조건에 해당하는 사원 리스트를 조회하거나 작성할 때 신속 정확하게 대행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관리 프로그램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SE CAM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은 업무가 변경되거나 세율의 변경 또는 추가시 사용자가 직접 수정할 수 있고 도움말의 기능을 최대한 부여하여 대부분 화면상에서 작업하는 도중에 도움말을 활용할 수 있기 때문에 사용법이 간편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관리시스템의 특징은 다음과 같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의료보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국민연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세법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재형기금을 자동산출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자의 세액 환급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징수분이 자동으로 계산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영수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징수부를 출력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매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까지 회사의 근무자를 연말 정산 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무중 중도에 외국 또는 지방 발령일 경우 중도 연말정산도  가능 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징수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원천영수증 출력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입력 기초작업시 호봉순에 의해 오름차순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림차순을 결정할 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제조업체일 경우 근태계산을 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32920"/>
            <a:ext cx="1295640" cy="531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제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1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5360" y="3078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인사급여 관리시스템 개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915400"/>
            <a:ext cx="586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3920" y="89154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Univers"/>
              </a:rPr>
              <a:t>인사급여관리시스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658" name=""/>
            <p:cNvGrpSpPr/>
            <p:nvPr/>
          </p:nvGrpSpPr>
          <p:grpSpPr>
            <a:xfrm>
              <a:off x="609480" y="232920"/>
              <a:ext cx="1618200" cy="1643760"/>
              <a:chOff x="609480" y="232920"/>
              <a:chExt cx="1618200" cy="1643760"/>
            </a:xfrm>
          </p:grpSpPr>
          <p:sp>
            <p:nvSpPr>
              <p:cNvPr id="659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5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2840" y="1125360"/>
                <a:ext cx="125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5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퇴직사원 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89640" y="1600200"/>
                <a:ext cx="123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퇴직사원 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퇴직정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flower3" descr=""/>
          <p:cNvPicPr/>
          <p:nvPr/>
        </p:nvPicPr>
        <p:blipFill>
          <a:blip r:embed="rId1"/>
          <a:stretch/>
        </p:blipFill>
        <p:spPr>
          <a:xfrm>
            <a:off x="838080" y="52722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15760" y="5670720"/>
            <a:ext cx="38455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해에 퇴직자에 대한 자료를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면 그 해의 퇴직사원의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를 등록할 경우 사원번호를 입력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사원이 있을 경우 근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간을 계산하여 화면에 표시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없을 경우 메시지와 함께 재입력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로 등록이 되면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의 인사 입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 화면에 퇴사여부에 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등록되며 급여 및 상여 계산에서 제외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를 다시 삭제하면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의 인사 입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 화면에 퇴사여부에 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없어지며 급여 및 상여 계산에 다시 포함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로 등록된 사원은 퇴직정산을 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날짜는 수기로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" y="5638680"/>
            <a:ext cx="548640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295280" y="5348160"/>
            <a:ext cx="609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69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퇴직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정산 원천 징수부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8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028960" y="6629400"/>
            <a:ext cx="35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 원천 징수부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의 화면으로 구성되어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사원에 대한 징수부와 영수증을 한번에 같이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고 엔터키를 누르면 퇴직사원 등로화면에서 등록한 자료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를 계산할 때 영수증도 같이 계산해주므로 먼저 기본적인 데이타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입력이 끝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눌러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Image52" descr=""/>
          <p:cNvPicPr/>
          <p:nvPr/>
        </p:nvPicPr>
        <p:blipFill>
          <a:blip r:embed="rId2"/>
          <a:stretch/>
        </p:blipFill>
        <p:spPr>
          <a:xfrm>
            <a:off x="3960720" y="4033800"/>
            <a:ext cx="2440080" cy="1752480"/>
          </a:xfrm>
          <a:prstGeom prst="rect">
            <a:avLst/>
          </a:prstGeom>
          <a:ln w="0">
            <a:noFill/>
          </a:ln>
        </p:spPr>
      </p:pic>
      <p:pic>
        <p:nvPicPr>
          <p:cNvPr id="684" name="Image50" descr=""/>
          <p:cNvPicPr/>
          <p:nvPr/>
        </p:nvPicPr>
        <p:blipFill>
          <a:blip r:embed="rId3"/>
          <a:stretch/>
        </p:blipFill>
        <p:spPr>
          <a:xfrm>
            <a:off x="1065240" y="2205000"/>
            <a:ext cx="2440080" cy="1757520"/>
          </a:xfrm>
          <a:prstGeom prst="rect">
            <a:avLst/>
          </a:prstGeom>
          <a:ln w="0">
            <a:noFill/>
          </a:ln>
        </p:spPr>
      </p:pic>
      <p:pic>
        <p:nvPicPr>
          <p:cNvPr id="685" name="Image51" descr=""/>
          <p:cNvPicPr/>
          <p:nvPr/>
        </p:nvPicPr>
        <p:blipFill>
          <a:blip r:embed="rId4"/>
          <a:stretch/>
        </p:blipFill>
        <p:spPr>
          <a:xfrm>
            <a:off x="3960720" y="2205000"/>
            <a:ext cx="2440080" cy="1757520"/>
          </a:xfrm>
          <a:prstGeom prst="rect">
            <a:avLst/>
          </a:prstGeom>
          <a:ln w="0">
            <a:noFill/>
          </a:ln>
        </p:spPr>
      </p:pic>
      <p:pic>
        <p:nvPicPr>
          <p:cNvPr id="686" name="Image50-1" descr=""/>
          <p:cNvPicPr/>
          <p:nvPr/>
        </p:nvPicPr>
        <p:blipFill>
          <a:blip r:embed="rId5"/>
          <a:stretch/>
        </p:blipFill>
        <p:spPr>
          <a:xfrm>
            <a:off x="1065240" y="4033800"/>
            <a:ext cx="2440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09520" y="1143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91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3" name="Image52-1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581280" cy="243072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127520" y="483084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Image51-1" descr=""/>
          <p:cNvPicPr/>
          <p:nvPr/>
        </p:nvPicPr>
        <p:blipFill>
          <a:blip r:embed="rId2"/>
          <a:stretch/>
        </p:blipFill>
        <p:spPr>
          <a:xfrm>
            <a:off x="2057400" y="54100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퇴직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정산 원천 영수증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0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002320" y="6629400"/>
            <a:ext cx="34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 원천 영수증은 징수부의 계산시 같이 계산되므로 따로 계산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가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에서 같이 계산이 되므로 미리 기본적인 데이터를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495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6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연  말  정  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066680" y="3567240"/>
            <a:ext cx="50292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711" name=""/>
            <p:cNvGrpSpPr/>
            <p:nvPr/>
          </p:nvGrpSpPr>
          <p:grpSpPr>
            <a:xfrm>
              <a:off x="609480" y="232920"/>
              <a:ext cx="1862280" cy="1643760"/>
              <a:chOff x="609480" y="232920"/>
              <a:chExt cx="1862280" cy="1643760"/>
            </a:xfrm>
          </p:grpSpPr>
          <p:sp>
            <p:nvSpPr>
              <p:cNvPr id="712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6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34120" y="1125360"/>
                <a:ext cx="14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6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과세표준 세율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050840" y="1600200"/>
                <a:ext cx="142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과세표준 세율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연말정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flower3" descr=""/>
          <p:cNvPicPr/>
          <p:nvPr/>
        </p:nvPicPr>
        <p:blipFill>
          <a:blip r:embed="rId1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774800" y="6751800"/>
            <a:ext cx="321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및 퇴직정산을 하기전에 꼭 정확한 자료가 입력되었는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해의 세법에 따라  과세표준 누진세액을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법이 바뀔때마다 수정이 가능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락드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295280" y="6248520"/>
            <a:ext cx="60984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722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4" name="Image5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과세 공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48040" y="1593720"/>
            <a:ext cx="132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비과세 공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33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785600" y="6705720"/>
            <a:ext cx="284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종 수당에 대한 비과세 범위를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과 연말정산시 이용되므로 정확이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Image56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세액공제 산출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09240" y="1593720"/>
            <a:ext cx="15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세액공제 산출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4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932120" y="6629400"/>
            <a:ext cx="362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액공제 산출식 등록은 퇴직정산과 연말정산시 세액공제를 계산하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한 곳이므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법이 바뀔 경우 반드시 재등록 해주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만일 이곳에서 빈칸이 있을 경우 연말정산 계산시 에러가 나므로 반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계산을 하기전에 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과 다음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사이 연말정산 책자를 제공하므로 참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수정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94320" y="11192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기초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41280" y="159372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연말정산 기초 입력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5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954800" y="6629400"/>
            <a:ext cx="342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을 하기 전에 반드시 입력해 주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한 다음 엔터키를 누르면 사원의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득공제 인원등 필요한 내용을 빠짐없이 입력해 주어야 연말정산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올바른 세액공제를 받을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7800" y="159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정산 원천 징수부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7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2032920" y="6629400"/>
            <a:ext cx="352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원천 징수부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의 화면으로 구성되어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사원에 대한 징수부와 영수증을 한번에 같이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면 사원에 대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를 계산할 때 영수증도 같이 계산해주므로 먼저 기본적인 데이타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입력이 끝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눌러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8320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3948120" y="2195640"/>
            <a:ext cx="2452680" cy="18428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981000" y="4081320"/>
            <a:ext cx="2600280" cy="17859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3938760" y="4057560"/>
            <a:ext cx="2462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1295280"/>
            <a:ext cx="55627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업무 환경에 맞는 시스템의 초기값을 설정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사명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자등록번호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표자 성명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소등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을 설정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어떤 조건에 해당되는 사원의 리스트를 조회하거나 보고서를  작성하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 할 경우  바로 작성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9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경영자를 위한 유용한 인사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보고서를 제공합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0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도움말의 기능을 최대한 부여하여 사용법이 간편합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1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에 관한 모든 서류를 출력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 기록 카드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병역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력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격증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원명부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각종증명서등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8915400"/>
            <a:ext cx="586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3920" y="89154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Univers"/>
              </a:rPr>
              <a:t>인사급여관리시스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109520" y="1143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781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1127520" y="483084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Image60-5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785" name="Image60-6" descr=""/>
          <p:cNvPicPr/>
          <p:nvPr/>
        </p:nvPicPr>
        <p:blipFill>
          <a:blip r:embed="rId2"/>
          <a:stretch/>
        </p:blipFill>
        <p:spPr>
          <a:xfrm>
            <a:off x="2057400" y="5410080"/>
            <a:ext cx="37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원천 영수증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9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002320" y="6629400"/>
            <a:ext cx="34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원천 영수증은 징수부의 계산시 같이 계산되므로 따로 계산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가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에서 같이 계산이 되므로 미리 기본적인 데이터를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득세 납세필 증명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98880" y="1593720"/>
            <a:ext cx="17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세 납세필 증명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0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985040" y="6629400"/>
            <a:ext cx="34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득세 납세필 증명서는 연말정산 자료를 바탕으로 출력하므로 반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을 하고 난 다음 이용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 제출할 일이 있는 사원의 번호를 입력하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간의 자료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나타나고 바로 인쇄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1676520" y="2038320"/>
            <a:ext cx="3962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086120" y="1119240"/>
            <a:ext cx="205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천징수 이행상황 신고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327320" y="1593720"/>
            <a:ext cx="21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원천징수 이행상황 신고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1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997280" y="6629400"/>
            <a:ext cx="354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천징수 이행상황신고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매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 갑종근로소득세의 내역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 제출할 경우 같이 작성하여 제출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를 지급한 달을 선택한후 엔터키를 누르면 기본자료가 정산되어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나타나며 사용자가 수기로 수정하거나 입력해 줄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입력한 후 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눌러 계산을 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을 끝마친 후 인쇄버튼을 누르면 프린터를 통하여 출력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9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득자료 제출 집계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7080" y="1593720"/>
            <a:ext cx="17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자료 제출 집계표 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3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979640" y="6629400"/>
            <a:ext cx="34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천징수 이행상황신고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세무서에 제출하는 서식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달을 선택후 엔터키를 누르면 자동으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수정하여 출력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을 끝마친 후 인쇄버튼을 누르면 프린터를 통하여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50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  타  작  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224000" y="3809880"/>
            <a:ext cx="487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001880" y="111924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정리 복구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1400" y="1593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정리 복구 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4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2008080" y="6629400"/>
            <a:ext cx="347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정리 복구 작업은 이미 파일로 등록되어 있는 인사관리 자료를 복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 수행 중 데이터가 틀리거나 바르게 수행되지 않을 때 자료를 다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구하여 작업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3810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807840" y="1119240"/>
            <a:ext cx="184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59480" y="1593720"/>
            <a:ext cx="17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5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1838880" y="6629400"/>
            <a:ext cx="36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은 파일로 등록되어 있는 인사관리 파일들에 대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백업파일을 만들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933840" y="111924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3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OS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변환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59200" y="1593720"/>
            <a:ext cx="163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변환 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6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1809720" y="6629400"/>
            <a:ext cx="3733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변환 작업은 기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작업하던 인사관리 시스템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DOW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전으로 변환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DO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에서 작업할 수 있도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므로 이 작업은 처음에 한 번만 해주면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257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037520" y="111924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스템 환경 설정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08240" y="1593720"/>
            <a:ext cx="181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환경 설정 작업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8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949760" y="6629400"/>
            <a:ext cx="333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급여를 사용자의 편의에 따라 환경을 설정하여 작업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갑근세 수작업 처리는 자동계산과 사용자가 임으로 수정하거나 입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는 수작업처리가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을 통해 출력물을 뽑을 때 폼 크기를 결정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에서의 직급을 오름차순 혹은 내림차순으로 정렬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설정을 한 후 저장 버튼을 누르면 계속 그 형태가 유지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후에 다시 설정을 변경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47640" y="1487520"/>
            <a:ext cx="1219320" cy="139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88748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581840"/>
            <a:ext cx="100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부서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직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격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금융기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보험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국민연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7680" y="1544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4120" y="16214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기초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4880" y="2562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인사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4880" y="3724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급여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57680" y="4973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4880" y="50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퇴직정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7680" y="67071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34880" y="679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연말정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7754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34880" y="7839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기타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3280" y="18111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76640" y="1792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0920" y="16462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전체의 기초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5720" y="2687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16240" y="2421000"/>
            <a:ext cx="114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의 모든 급여대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의 인사관련사항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모두 등록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수정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5720" y="3887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3400" y="3360600"/>
            <a:ext cx="110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급여수당 조정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상여금 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재형기금 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의료보험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국민연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세법 자동 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95720" y="5240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84560" y="4713120"/>
            <a:ext cx="126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 등록시 급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및 상여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기타사항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서 모두 사라진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의 영수증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부를 출력할 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있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의 세액 환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분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분 자동 계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6640" y="6954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83120" y="6541920"/>
            <a:ext cx="122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의 근무자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연말정산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중도연말정산도 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부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영수증 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7964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47120" y="7551720"/>
            <a:ext cx="10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인사</a:t>
            </a: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SET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료복구 및 백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도스화일을 윈도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파일로 변환 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3640" y="690120"/>
            <a:ext cx="1890360" cy="340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인사급여 관리 시스템 업무 흐름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11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541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173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4687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722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8080" y="8974080"/>
            <a:ext cx="5867640" cy="231120"/>
            <a:chOff x="838080" y="8974080"/>
            <a:chExt cx="5867640" cy="231120"/>
          </a:xfrm>
        </p:grpSpPr>
        <p:sp>
          <p:nvSpPr>
            <p:cNvPr id="101" name=""/>
            <p:cNvSpPr/>
            <p:nvPr/>
          </p:nvSpPr>
          <p:spPr>
            <a:xfrm>
              <a:off x="838080" y="897408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23920" y="897408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895480" y="2478240"/>
            <a:ext cx="1143000" cy="47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6399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600200" y="1215000"/>
            <a:ext cx="3962520" cy="12088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인사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연말정산 출력자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26760" y="575784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인사급여 관리 시스템 메인 화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10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333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02:16:58Z</dcterms:created>
  <dc:creator>이희숙</dc:creator>
  <dc:description/>
  <dc:language>en-US</dc:language>
  <cp:lastModifiedBy>dt</cp:lastModifiedBy>
  <cp:lastPrinted>1999-09-27T09:42:55Z</cp:lastPrinted>
  <dcterms:modified xsi:type="dcterms:W3CDTF">2002-01-25T02:24:26Z</dcterms:modified>
  <cp:revision>168</cp:revision>
  <dc:subject/>
  <dc:title>슬라이드 제목 없음</dc:title>
</cp:coreProperties>
</file>