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3.png" ContentType="image/png"/>
  <Override PartName="/ppt/media/image56.jpeg" ContentType="image/jpeg"/>
  <Override PartName="/ppt/media/image51.png" ContentType="image/png"/>
  <Override PartName="/ppt/media/image50.png" ContentType="image/png"/>
  <Override PartName="/ppt/media/image49.png" ContentType="image/png"/>
  <Override PartName="/ppt/media/image100.png" ContentType="image/png"/>
  <Override PartName="/ppt/media/image48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43.png" ContentType="image/png"/>
  <Override PartName="/ppt/media/image55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66.png" ContentType="image/png"/>
  <Override PartName="/ppt/media/image40.png" ContentType="image/png"/>
  <Override PartName="/ppt/media/image37.jpeg" ContentType="image/jpeg"/>
  <Override PartName="/ppt/media/image20.png" ContentType="image/png"/>
  <Override PartName="/ppt/media/image32.png" ContentType="image/png"/>
  <Override PartName="/ppt/media/image30.jpeg" ContentType="image/jpeg"/>
  <Override PartName="/ppt/media/image39.png" ContentType="image/png"/>
  <Override PartName="/ppt/media/image9.png" ContentType="image/png"/>
  <Override PartName="/ppt/media/image13.png" ContentType="image/png"/>
  <Override PartName="/ppt/media/image52.jpeg" ContentType="image/jpeg"/>
  <Override PartName="/ppt/media/image1.png" ContentType="image/png"/>
  <Override PartName="/ppt/media/image8.png" ContentType="image/png"/>
  <Override PartName="/ppt/media/image82.jpeg" ContentType="image/jpeg"/>
  <Override PartName="/ppt/media/image7.png" ContentType="image/png"/>
  <Override PartName="/ppt/media/image19.png" ContentType="image/png"/>
  <Override PartName="/ppt/media/image11.png" ContentType="image/png"/>
  <Override PartName="/ppt/media/image108.png" ContentType="image/png"/>
  <Override PartName="/ppt/media/image47.png" ContentType="image/png"/>
  <Override PartName="/ppt/media/image10.png" ContentType="image/png"/>
  <Override PartName="/ppt/media/image36.jpeg" ContentType="image/jpe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98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4.jpeg" ContentType="image/jpeg"/>
  <Override PartName="/ppt/media/image65.png" ContentType="image/png"/>
  <Override PartName="/ppt/media/image69.jpeg" ContentType="image/jpeg"/>
  <Override PartName="/ppt/media/image72.png" ContentType="image/png"/>
  <Override PartName="/ppt/media/image77.png" ContentType="image/png"/>
  <Override PartName="/ppt/media/image79.png" ContentType="image/png"/>
  <Override PartName="/ppt/media/image42.png" ContentType="image/png"/>
  <Override PartName="/ppt/media/image68.png" ContentType="image/png"/>
  <Override PartName="/ppt/media/image70.png" ContentType="image/png"/>
  <Override PartName="/ppt/media/image83.jpeg" ContentType="image/jpeg"/>
  <Override PartName="/ppt/media/image95.png" ContentType="image/png"/>
  <Override PartName="/ppt/media/image102.png" ContentType="image/png"/>
  <Override PartName="/ppt/media/image78.jpeg" ContentType="image/jpeg"/>
  <Override PartName="/ppt/media/image84.jpeg" ContentType="image/jpeg"/>
  <Override PartName="/ppt/media/image67.jpeg" ContentType="image/jpeg"/>
  <Override PartName="/ppt/media/image106.png" ContentType="image/png"/>
  <Override PartName="/ppt/media/image62.png" ContentType="image/png"/>
  <Override PartName="/ppt/media/image28.jpeg" ContentType="image/jpeg"/>
  <Override PartName="/ppt/media/image91.png" ContentType="image/png"/>
  <Override PartName="/ppt/media/image90.jpeg" ContentType="image/jpeg"/>
  <Override PartName="/ppt/media/image104.png" ContentType="image/png"/>
  <Override PartName="/ppt/media/image97.png" ContentType="image/png"/>
  <Override PartName="/ppt/media/image94.png" ContentType="image/png"/>
  <Override PartName="/ppt/media/image63.jpeg" ContentType="image/jpeg"/>
  <Override PartName="/ppt/media/image75.png" ContentType="image/png"/>
  <Override PartName="/ppt/media/image81.jpeg" ContentType="image/jpeg"/>
  <Override PartName="/ppt/media/image23.png" ContentType="image/png"/>
  <Override PartName="/ppt/media/image105.png" ContentType="image/png"/>
  <Override PartName="/ppt/media/image61.png" ContentType="image/png"/>
  <Override PartName="/ppt/media/image86.jpeg" ContentType="image/jpeg"/>
  <Override PartName="/ppt/media/image103.png" ContentType="image/png"/>
  <Override PartName="/ppt/media/image96.png" ContentType="image/png"/>
  <Override PartName="/ppt/media/image71.jpeg" ContentType="image/jpeg"/>
  <Override PartName="/ppt/media/image88.png" ContentType="image/png"/>
  <Override PartName="/ppt/media/image93.png" ContentType="image/png"/>
  <Override PartName="/ppt/media/image14.png" ContentType="image/png"/>
  <Override PartName="/ppt/media/image87.png" ContentType="image/png"/>
  <Override PartName="/ppt/media/image64.png" ContentType="image/png"/>
  <Override PartName="/ppt/media/image60.jpeg" ContentType="image/jpeg"/>
  <Override PartName="/ppt/media/image26.jpeg" ContentType="image/jpeg"/>
  <Override PartName="/ppt/media/image101.png" ContentType="image/png"/>
  <Override PartName="/ppt/media/image85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89.jpeg" ContentType="image/jpeg"/>
  <Override PartName="/ppt/media/image57.png" ContentType="image/png"/>
  <Override PartName="/ppt/media/image31.png" ContentType="image/png"/>
  <Override PartName="/ppt/media/image2.jpeg" ContentType="image/jpeg"/>
  <Override PartName="/ppt/media/image73.jpeg" ContentType="image/jpeg"/>
  <Override PartName="/ppt/media/image24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9.jpeg" ContentType="image/jpeg"/>
  <Override PartName="/ppt/media/image92.png" ContentType="image/png"/>
  <Override PartName="/ppt/media/image27.png" ContentType="image/png"/>
  <Override PartName="/ppt/media/image16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6858000" cy="9144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D6C-47C7-4E6E-81D1-40113D6A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716-425A-4D29-83BF-2F9CD28C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C78-C158-4E6B-9D9C-FD07D4A3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614-CD54-42A1-AF71-F239236F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E85-E51B-40A2-A975-E22E6A79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864-930C-4F4C-BDC6-CCC5DAF0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52D-05CF-451D-AFD2-40B31815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D91-9040-46AA-A3EC-AC0A6663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518-22FE-48BF-9BDB-A3BF3448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973-270A-4B1C-92E5-9FFBE075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569-EB2A-4566-939B-BB39C60D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0EF-0396-439C-83A3-158D1B4E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7A4C-CA02-45FF-9743-2D4759F95162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6.jpe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27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1280" y="723888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뉴론 데이터 시스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57160" y="518076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2002. 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51560" y="1221120"/>
            <a:ext cx="2703960" cy="69336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Univers"/>
                <a:ea typeface="굴림체"/>
              </a:rPr>
              <a:t>인사급여 관리 시스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15400" y="609480"/>
            <a:ext cx="12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</a:t>
            </a: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3760" y="1357200"/>
            <a:ext cx="20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메뉴에 나오는 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CON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설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ICON-1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4038840" cy="758880"/>
          </a:xfrm>
          <a:prstGeom prst="rect">
            <a:avLst/>
          </a:prstGeom>
          <a:ln w="0">
            <a:noFill/>
          </a:ln>
        </p:spPr>
      </p:pic>
      <p:pic>
        <p:nvPicPr>
          <p:cNvPr id="116" name="맨처음" descr=""/>
          <p:cNvPicPr/>
          <p:nvPr/>
        </p:nvPicPr>
        <p:blipFill>
          <a:blip r:embed="rId2"/>
          <a:stretch/>
        </p:blipFill>
        <p:spPr>
          <a:xfrm>
            <a:off x="1066680" y="3754440"/>
            <a:ext cx="3812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끝으로" descr=""/>
          <p:cNvPicPr/>
          <p:nvPr/>
        </p:nvPicPr>
        <p:blipFill>
          <a:blip r:embed="rId3"/>
          <a:stretch/>
        </p:blipFill>
        <p:spPr>
          <a:xfrm>
            <a:off x="1066680" y="5334120"/>
            <a:ext cx="381240" cy="360360"/>
          </a:xfrm>
          <a:prstGeom prst="rect">
            <a:avLst/>
          </a:prstGeom>
          <a:ln w="0">
            <a:noFill/>
          </a:ln>
        </p:spPr>
      </p:pic>
      <p:pic>
        <p:nvPicPr>
          <p:cNvPr id="118" name="닫기" descr=""/>
          <p:cNvPicPr/>
          <p:nvPr/>
        </p:nvPicPr>
        <p:blipFill>
          <a:blip r:embed="rId4"/>
          <a:stretch/>
        </p:blipFill>
        <p:spPr>
          <a:xfrm>
            <a:off x="1066680" y="8021520"/>
            <a:ext cx="45432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뒤로" descr=""/>
          <p:cNvPicPr/>
          <p:nvPr/>
        </p:nvPicPr>
        <p:blipFill>
          <a:blip r:embed="rId5"/>
          <a:stretch/>
        </p:blipFill>
        <p:spPr>
          <a:xfrm>
            <a:off x="1066680" y="4821120"/>
            <a:ext cx="3812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삭제" descr=""/>
          <p:cNvPicPr/>
          <p:nvPr/>
        </p:nvPicPr>
        <p:blipFill>
          <a:blip r:embed="rId6"/>
          <a:stretch/>
        </p:blipFill>
        <p:spPr>
          <a:xfrm>
            <a:off x="1066680" y="64213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1" name="앞으로" descr=""/>
          <p:cNvPicPr/>
          <p:nvPr/>
        </p:nvPicPr>
        <p:blipFill>
          <a:blip r:embed="rId7"/>
          <a:stretch/>
        </p:blipFill>
        <p:spPr>
          <a:xfrm>
            <a:off x="1066680" y="4267080"/>
            <a:ext cx="381240" cy="360360"/>
          </a:xfrm>
          <a:prstGeom prst="rect">
            <a:avLst/>
          </a:prstGeom>
          <a:ln w="0">
            <a:noFill/>
          </a:ln>
        </p:spPr>
      </p:pic>
      <p:pic>
        <p:nvPicPr>
          <p:cNvPr id="122" name="저장" descr=""/>
          <p:cNvPicPr/>
          <p:nvPr/>
        </p:nvPicPr>
        <p:blipFill>
          <a:blip r:embed="rId8"/>
          <a:stretch/>
        </p:blipFill>
        <p:spPr>
          <a:xfrm>
            <a:off x="1066680" y="69548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큰프린터" descr=""/>
          <p:cNvPicPr/>
          <p:nvPr/>
        </p:nvPicPr>
        <p:blipFill>
          <a:blip r:embed="rId9"/>
          <a:stretch/>
        </p:blipFill>
        <p:spPr>
          <a:xfrm>
            <a:off x="1066680" y="7488360"/>
            <a:ext cx="44460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삽입" descr=""/>
          <p:cNvPicPr/>
          <p:nvPr/>
        </p:nvPicPr>
        <p:blipFill>
          <a:blip r:embed="rId10"/>
          <a:stretch/>
        </p:blipFill>
        <p:spPr>
          <a:xfrm>
            <a:off x="1066680" y="58881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71480" y="1855800"/>
            <a:ext cx="381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사급여 관리시스템을 운영할 때 사용하는 아이콘은 다음과같은 기능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가지고 있다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아이콘은 모양이 같으면 같은 기능을 가지고 있으므로 다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뉴에서도 참조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73680" y="3809880"/>
            <a:ext cx="23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서 제일 처음데이타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42000" y="4327560"/>
            <a:ext cx="23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서 바로전 데이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7560" y="4861080"/>
            <a:ext cx="246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서 바로다음 데이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86640" y="5394240"/>
            <a:ext cx="26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서 가장 마지막 데이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90320" y="5927760"/>
            <a:ext cx="30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서 바로 다음에 새로운 데이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를  삽입할 경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78280" y="6461280"/>
            <a:ext cx="23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위치에 있는 데이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레코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를  삭제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70360" y="700416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현재의 내용을 파일로 저장한다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92960" y="7543800"/>
            <a:ext cx="135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결과를 프린터로 출력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58200" y="8061480"/>
            <a:ext cx="20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현재메뉴화면을 닫고 이전 메뉴로 돌아간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13960" y="609480"/>
            <a:ext cx="12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</a:t>
            </a: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18400" y="2438280"/>
            <a:ext cx="324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3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검색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담음과 같은  화면이 나오며 사원번호를 입력하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그 사원으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ICON-3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2895480" cy="609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67200" y="4114800"/>
            <a:ext cx="392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5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선택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자료를 입력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예를 들어 부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직위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급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역종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금융기관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등을 입력할 때 선택화면이 나타나 입력시 참고할 수 있도록 해준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920" y="5072040"/>
            <a:ext cx="33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10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화면전환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사원에 대한 자료를 개인별로 상세하게 입력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할 수 있는 화면이 열린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33480" y="6039000"/>
            <a:ext cx="666720" cy="285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923760" y="2576520"/>
            <a:ext cx="657360" cy="257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914400" y="4257720"/>
            <a:ext cx="676440" cy="237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90680" y="6019920"/>
            <a:ext cx="34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4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추가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개인화면에서 새로운 자료를 새로 추가할 수 있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1219320"/>
          <a:ext cx="48006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219320"/>
                    <a:ext cx="48006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947880" y="5181480"/>
          <a:ext cx="76176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47880" y="5181480"/>
                    <a:ext cx="7617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13960" y="609480"/>
            <a:ext cx="12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</a:t>
            </a: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28880" y="1305000"/>
            <a:ext cx="5143320" cy="981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52760" cy="247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990720" cy="25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838080" y="4572000"/>
            <a:ext cx="885960" cy="247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838080" y="5410080"/>
            <a:ext cx="800280" cy="228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303280" y="2743200"/>
            <a:ext cx="28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4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월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전월 자료를 새로 복사받을 수 있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이 키는 급여등록에서도 같은 기능을 수행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8840" y="3657600"/>
            <a:ext cx="31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5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근태합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한달간의 근무시간을 종류별로 합산하여 급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계산에 이용할 수 있도록 해준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5480" y="4495680"/>
            <a:ext cx="31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6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앞으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일별 근무시간 입력시 바로 앞 사원의 레코드로 이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할 수 있도록 해준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5480" y="5334120"/>
            <a:ext cx="31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7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뒤로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일별 근무시간 입력시 바로 다음 사원의 레코드로 이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할 수 있도록 해준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3880" y="7754760"/>
            <a:ext cx="32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F6(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계산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키를 누르면 현재 화면에 입력된 사원의 급여를 계산 해준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838080" y="7800840"/>
            <a:ext cx="819360" cy="2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1219320" y="6400800"/>
          <a:ext cx="48006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6400800"/>
                    <a:ext cx="48006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2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기  초  작  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50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5" descr=""/>
          <p:cNvPicPr/>
          <p:nvPr/>
        </p:nvPicPr>
        <p:blipFill>
          <a:blip r:embed="rId1"/>
          <a:stretch/>
        </p:blipFill>
        <p:spPr>
          <a:xfrm>
            <a:off x="2171880" y="2286000"/>
            <a:ext cx="3238200" cy="3276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기초작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232920"/>
            <a:ext cx="6248520" cy="1643760"/>
            <a:chOff x="457200" y="232920"/>
            <a:chExt cx="6248520" cy="1643760"/>
          </a:xfrm>
        </p:grpSpPr>
        <p:grpSp>
          <p:nvGrpSpPr>
            <p:cNvPr id="169" name=""/>
            <p:cNvGrpSpPr/>
            <p:nvPr/>
          </p:nvGrpSpPr>
          <p:grpSpPr>
            <a:xfrm>
              <a:off x="609480" y="232920"/>
              <a:ext cx="1333440" cy="1643760"/>
              <a:chOff x="609480" y="232920"/>
              <a:chExt cx="1333440" cy="1643760"/>
            </a:xfrm>
          </p:grpSpPr>
          <p:sp>
            <p:nvSpPr>
              <p:cNvPr id="170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2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4720" y="1125360"/>
                <a:ext cx="99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2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부서등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27360" y="1600200"/>
                <a:ext cx="101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1.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부서등록 화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175" name="flower3" descr=""/>
            <p:cNvPicPr/>
            <p:nvPr/>
          </p:nvPicPr>
          <p:blipFill>
            <a:blip r:embed="rId2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423800" y="6827760"/>
              <a:ext cx="2720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부서코드는 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B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까지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부서명은 회사의 모든 부서를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180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9800" y="1119240"/>
            <a:ext cx="95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직급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75680" y="1593720"/>
            <a:ext cx="10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직급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186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415160" y="6827760"/>
              <a:ext cx="2716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직급코드는 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K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까지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직급명은 근무사원의 모든 직급을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191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3" name="Image6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3200400" cy="3276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176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5112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취득 자격증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1680" y="1593720"/>
            <a:ext cx="11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격증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Image7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3200400" cy="32763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02" name="flower3" descr=""/>
            <p:cNvPicPr/>
            <p:nvPr/>
          </p:nvPicPr>
          <p:blipFill>
            <a:blip r:embed="rId2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492200" y="6827760"/>
              <a:ext cx="279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격증 코드는 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J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까지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격종목명은 근무사원의 취득자격증을 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2412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금융기관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금융기관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14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787760" y="6827760"/>
              <a:ext cx="3509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은행코드는  숫자형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까지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금융기관명은 근무사원들의 급여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상여를 지급하기위한 곳을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19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1" name="Image8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3200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1944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건강보험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3832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건강보험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27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95320" y="6827760"/>
              <a:ext cx="32911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수액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상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수액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미만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표준액을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험률을 입력하면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예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:0.017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동으로 보험료가 계산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고용보험률도 세법에 따라 변경된 경우 입력해 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건강보험과 고용보험은 급여계산에 이용되므로 개인이 부담해야 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험률을 정확하게 입력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5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32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2412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국민연금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국민연금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40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671840" y="6827760"/>
              <a:ext cx="3609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수액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상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보수액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미만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표준액을 지정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국민연금 세율을 입력하면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예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:0.0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동으로 국민연금이 계산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국민연금은 급여계산에 이용되므로 정확하게 입력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45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33680" y="2100240"/>
            <a:ext cx="43862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518760"/>
            <a:ext cx="3511440" cy="735840"/>
          </a:xfrm>
          <a:prstGeom prst="horizontalScroll">
            <a:avLst>
              <a:gd name="adj" fmla="val 14657"/>
            </a:avLst>
          </a:prstGeom>
          <a:gradFill rotWithShape="0">
            <a:gsLst>
              <a:gs pos="0">
                <a:srgbClr val="f7f9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66"/>
                </a:solidFill>
                <a:latin typeface="굴림"/>
                <a:ea typeface="바탕"/>
              </a:rPr>
              <a:t>목         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6324480" cy="304920"/>
          </a:xfrm>
          <a:prstGeom prst="horizontalScroll">
            <a:avLst>
              <a:gd name="adj" fmla="val 20314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05120"/>
            <a:ext cx="6019920" cy="6933960"/>
          </a:xfrm>
          <a:custGeom>
            <a:avLst/>
            <a:gdLst>
              <a:gd name="textAreaLeft" fmla="*/ 293760 w 6019920"/>
              <a:gd name="textAreaRight" fmla="*/ 5726160 w 6019920"/>
              <a:gd name="textAreaTop" fmla="*/ 293760 h 6933960"/>
              <a:gd name="textAreaBottom" fmla="*/ 6640200 h 6933960"/>
            </a:gdLst>
            <a:ahLst/>
            <a:rect l="textAreaLeft" t="textAreaTop" r="textAreaRight" b="textAreaBottom"/>
            <a:pathLst>
              <a:path w="21600" h="24879">
                <a:moveTo>
                  <a:pt x="3600" y="0"/>
                </a:moveTo>
                <a:arcTo wR="3600" hR="3600" stAng="16200000" swAng="-5400000"/>
                <a:lnTo>
                  <a:pt x="0" y="21279"/>
                </a:lnTo>
                <a:arcTo wR="3600" hR="3600" stAng="10800000" swAng="-5400000"/>
                <a:lnTo>
                  <a:pt x="18000" y="24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286000"/>
            <a:ext cx="434340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인사급여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  <a:ea typeface="굴림체"/>
              </a:rPr>
              <a:t> 관리 시스템 개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  <a:ea typeface="굴림체"/>
              </a:rPr>
              <a:t>인사급여 관리 시스템의 개요와 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CON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설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.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초작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부서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직급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취득 자격증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금융기관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보험료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국민연금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회사 명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3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인사관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인사 입력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수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사원 정보 조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학력 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병력 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격 면허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임직원 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인사카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8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각종 증명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888480" y="11192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사명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11680" y="1593720"/>
            <a:ext cx="11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회사명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53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813680" y="6827760"/>
              <a:ext cx="3471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회사 사업장에 대한 정보를 입력해 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입력한 자료는 연말정산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퇴직정산시 출력양식에 이용되므로 정확하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입력해 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삽입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삭제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58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44956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3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인  사  관  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4953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57200" y="232920"/>
            <a:ext cx="6248520" cy="1643760"/>
            <a:chOff x="457200" y="232920"/>
            <a:chExt cx="6248520" cy="1643760"/>
          </a:xfrm>
        </p:grpSpPr>
        <p:grpSp>
          <p:nvGrpSpPr>
            <p:cNvPr id="264" name=""/>
            <p:cNvGrpSpPr/>
            <p:nvPr/>
          </p:nvGrpSpPr>
          <p:grpSpPr>
            <a:xfrm>
              <a:off x="609480" y="232920"/>
              <a:ext cx="1961640" cy="1643760"/>
              <a:chOff x="609480" y="232920"/>
              <a:chExt cx="1961640" cy="1643760"/>
            </a:xfrm>
          </p:grpSpPr>
          <p:sp>
            <p:nvSpPr>
              <p:cNvPr id="265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3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21440" y="1125360"/>
                <a:ext cx="141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3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인사 입력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/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수정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14840" y="1600200"/>
                <a:ext cx="155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1.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인사입력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/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수정 전체 화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인사관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lower3" descr=""/>
          <p:cNvPicPr/>
          <p:nvPr/>
        </p:nvPicPr>
        <p:blipFill>
          <a:blip r:embed="rId1"/>
          <a:stretch/>
        </p:blipFill>
        <p:spPr>
          <a:xfrm>
            <a:off x="838080" y="52005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14400" y="5867280"/>
            <a:ext cx="538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의 임직원 및 일반사원을 관리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한 자료는 연말정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정산시 출력양식에 이용되므로 정확하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3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원번호를 입력하면 그 사원의 자료를 보여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직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역종 등을 입력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선택화면이 표시되어 입력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참조할 수 있도록 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10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개인별로 정보를 입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급적 정보를 빠짐없이 입력하여야 정확한 결과를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직위 등은 기초등록의 자료를 이용하여 선택하는 것이므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화면에서 이미 입력된 자료를 수정하면 안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원을 두종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를 들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구분할 경우 사원번호를 이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여 나눌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를 들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000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번 부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00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번까지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000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번부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00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번까지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로 나누어 입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5638680"/>
            <a:ext cx="5486400" cy="289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95280" y="5276880"/>
            <a:ext cx="60984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275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4724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01440" y="1219320"/>
            <a:ext cx="191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3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검색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Image13-1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3733920" cy="2444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53720" y="5105520"/>
            <a:ext cx="191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5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선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Image13-2" descr=""/>
          <p:cNvPicPr/>
          <p:nvPr/>
        </p:nvPicPr>
        <p:blipFill>
          <a:blip r:embed="rId2"/>
          <a:stretch/>
        </p:blipFill>
        <p:spPr>
          <a:xfrm>
            <a:off x="1905120" y="5638680"/>
            <a:ext cx="3886200" cy="247356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285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2664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원 정보 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16880" y="159372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원정보 조회 출력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292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814040" y="6827760"/>
              <a:ext cx="3558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개인의 자료를 조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하고 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먼저 검색조건을 설정하면 조건 화면이 열린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원하는 조건을 클릭하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검색버튼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돋보기 모양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을 누르면 화면에 자료가 표시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 화면에서는 자료는 수정하지 않고 단지 조회와 인쇄만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료를 수정할 경우는 인사 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화면에서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297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4647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48960" y="1219320"/>
            <a:ext cx="21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10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세보기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304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4496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944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학력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학력명부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312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713240" y="6827760"/>
              <a:ext cx="36075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개인의 학력명부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부서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직위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옵션별로 지정해서 출력조건을 지정할 수 있으며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아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것도 지정하지 않으면 전부 출력하게 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사원번호를 입력하지 않으면 전 사원을 대상으로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5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쇄하기 전에 화면인쇄를 통해 화면에 미리보기를 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317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3457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7000" y="1143000"/>
            <a:ext cx="21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학력명부출력시  출력옵션을 선택한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Image23" descr=""/>
          <p:cNvPicPr/>
          <p:nvPr/>
        </p:nvPicPr>
        <p:blipFill>
          <a:blip r:embed="rId1"/>
          <a:stretch/>
        </p:blipFill>
        <p:spPr>
          <a:xfrm>
            <a:off x="1905120" y="563868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188360" y="510552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학력명부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326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928880" y="1695600"/>
            <a:ext cx="3862440" cy="30286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257800" y="373392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2880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병력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병력명부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335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726560" y="6827760"/>
              <a:ext cx="36075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개인의 병력명부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부서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직위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옵션별로 지정해서 출력조건을 지정할 수 있으며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아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것도 지정하지 않으면 전부 출력하게 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340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37339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88360" y="114300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병력명부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Image2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33526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348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219320"/>
            <a:ext cx="6019920" cy="6933960"/>
          </a:xfrm>
          <a:custGeom>
            <a:avLst/>
            <a:gdLst>
              <a:gd name="textAreaLeft" fmla="*/ 293760 w 6019920"/>
              <a:gd name="textAreaRight" fmla="*/ 5726160 w 6019920"/>
              <a:gd name="textAreaTop" fmla="*/ 293760 h 6933960"/>
              <a:gd name="textAreaBottom" fmla="*/ 6640200 h 6933960"/>
            </a:gdLst>
            <a:ahLst/>
            <a:rect l="textAreaLeft" t="textAreaTop" r="textAreaRight" b="textAreaBottom"/>
            <a:pathLst>
              <a:path w="21600" h="24879">
                <a:moveTo>
                  <a:pt x="3600" y="0"/>
                </a:moveTo>
                <a:arcTo wR="3600" hR="3600" stAng="16200000" swAng="-5400000"/>
                <a:lnTo>
                  <a:pt x="0" y="21279"/>
                </a:lnTo>
                <a:arcTo wR="3600" hR="3600" stAng="10800000" swAng="-5400000"/>
                <a:lnTo>
                  <a:pt x="18000" y="24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057400"/>
            <a:ext cx="2895840" cy="49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급여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  <a:ea typeface="굴림체"/>
              </a:rPr>
              <a:t>관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사원 근태사항 등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각종 수당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급여 등록 계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여금 등록 계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급여 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여금 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급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 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8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봉투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명세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금융기관별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0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기간별 총액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.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퇴직정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퇴직사원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퇴직정산 원천 징수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퇴직정산 원천 영수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47520" y="60948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목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1944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격면허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격면허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355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750320" y="6827760"/>
              <a:ext cx="351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개인의 자격면허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하고자 하는 자격증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면허코드를 지정하여 종류별로 출력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360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3886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194120" y="1143000"/>
            <a:ext cx="159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격 면허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Image18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1148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368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6228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임직원 명부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78280" y="1593720"/>
            <a:ext cx="13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임직원 명부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375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739160" y="6827760"/>
              <a:ext cx="35316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임직원명부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하고자 하는 부서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직위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옵션을 지정하여 종류별로 출력하며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아무것도 지정하지 않으면 전부 출력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380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1814400" y="2057400"/>
            <a:ext cx="41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24360" y="1143000"/>
            <a:ext cx="168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임직원 명부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387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Image19-1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419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1944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사카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2280" y="1593720"/>
            <a:ext cx="12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카드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395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750320" y="6827760"/>
              <a:ext cx="351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개인의 인사카드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근무사원의 자료를 개인별로 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400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03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188360" y="114300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카드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407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4647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6228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8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각종 증명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8280" y="1593720"/>
            <a:ext cx="13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각종 증명서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838080" y="5486400"/>
            <a:ext cx="5867640" cy="3607200"/>
            <a:chOff x="838080" y="5486400"/>
            <a:chExt cx="5867640" cy="3607200"/>
          </a:xfrm>
        </p:grpSpPr>
        <p:pic>
          <p:nvPicPr>
            <p:cNvPr id="415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5486400"/>
              <a:ext cx="304920" cy="3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749960" y="6293160"/>
              <a:ext cx="3636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3.1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인사입력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메뉴에서 입력한 자료를 토대로 필요시 재직 증명서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경력 증명서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퇴직 증명서를 출력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증명서 종류를 선택하고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사원번호를 입력하면 그 사원의 자료가 화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에 나타나고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필요시 수정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출력결과는 화면과 프린터출력을 통해 볼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사원번호를 입력하면 기본적인 내용이 화면에 나타나고  화면에서 바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수정하여 인쇄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14400" y="5955120"/>
              <a:ext cx="5486400" cy="243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1295280" y="5580000"/>
              <a:ext cx="609840" cy="374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838080" y="8862480"/>
              <a:ext cx="5867640" cy="231120"/>
              <a:chOff x="838080" y="8862480"/>
              <a:chExt cx="5867640" cy="231120"/>
            </a:xfrm>
          </p:grpSpPr>
          <p:sp>
            <p:nvSpPr>
              <p:cNvPr id="420" name=""/>
              <p:cNvSpPr/>
              <p:nvPr/>
            </p:nvSpPr>
            <p:spPr>
              <a:xfrm>
                <a:off x="838080" y="886248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23920" y="886248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4724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325160" y="1143000"/>
            <a:ext cx="263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각종 증명서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경력증명서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인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427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Image27-1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343400" cy="2438640"/>
          </a:xfrm>
          <a:prstGeom prst="rect">
            <a:avLst/>
          </a:prstGeom>
          <a:ln w="0">
            <a:noFill/>
          </a:ln>
        </p:spPr>
      </p:pic>
      <p:pic>
        <p:nvPicPr>
          <p:cNvPr id="430" name="경력증명서" descr=""/>
          <p:cNvPicPr/>
          <p:nvPr/>
        </p:nvPicPr>
        <p:blipFill>
          <a:blip r:embed="rId2"/>
          <a:stretch/>
        </p:blipFill>
        <p:spPr>
          <a:xfrm>
            <a:off x="1752480" y="4876920"/>
            <a:ext cx="4343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급  여  관  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5029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57200" y="232920"/>
            <a:ext cx="6248520" cy="1643760"/>
            <a:chOff x="457200" y="232920"/>
            <a:chExt cx="6248520" cy="1643760"/>
          </a:xfrm>
        </p:grpSpPr>
        <p:grpSp>
          <p:nvGrpSpPr>
            <p:cNvPr id="434" name=""/>
            <p:cNvGrpSpPr/>
            <p:nvPr/>
          </p:nvGrpSpPr>
          <p:grpSpPr>
            <a:xfrm>
              <a:off x="609480" y="232920"/>
              <a:ext cx="1907280" cy="1643760"/>
              <a:chOff x="609480" y="232920"/>
              <a:chExt cx="1907280" cy="1643760"/>
            </a:xfrm>
          </p:grpSpPr>
          <p:sp>
            <p:nvSpPr>
              <p:cNvPr id="435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4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1320" y="1125360"/>
                <a:ext cx="1514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4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사원 근태사항 등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56240" y="1600200"/>
                <a:ext cx="146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1.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사원 근태사항 등록 화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급여관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flower3" descr=""/>
          <p:cNvPicPr/>
          <p:nvPr/>
        </p:nvPicPr>
        <p:blipFill>
          <a:blip r:embed="rId1"/>
          <a:stretch/>
        </p:blipFill>
        <p:spPr>
          <a:xfrm>
            <a:off x="8380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806840" y="6570720"/>
            <a:ext cx="3669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조 및 생산에 근무하는 사원들의 근태사항을 기록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도와 월을 지정해주면 근태사원으로 등록된 자료가 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원번호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ter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누르면 그날의 근무시간을 입력하는 곳으로 이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원하는 사원번호로 이동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5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시간별로 근태수당을 계산하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내용은 급여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표시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현재 위치에서 전사원으로 이동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현재 위치에서 다음 사원으로 이동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144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295280" y="6248520"/>
            <a:ext cx="60984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445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7" name="Image29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3886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219320"/>
            <a:ext cx="6019920" cy="6933960"/>
          </a:xfrm>
          <a:custGeom>
            <a:avLst/>
            <a:gdLst>
              <a:gd name="textAreaLeft" fmla="*/ 293760 w 6019920"/>
              <a:gd name="textAreaRight" fmla="*/ 5726160 w 6019920"/>
              <a:gd name="textAreaTop" fmla="*/ 293760 h 6933960"/>
              <a:gd name="textAreaBottom" fmla="*/ 6640200 h 6933960"/>
            </a:gdLst>
            <a:ahLst/>
            <a:rect l="textAreaLeft" t="textAreaTop" r="textAreaRight" b="textAreaBottom"/>
            <a:pathLst>
              <a:path w="21600" h="24879">
                <a:moveTo>
                  <a:pt x="3600" y="0"/>
                </a:moveTo>
                <a:arcTo wR="3600" hR="3600" stAng="16200000" swAng="-5400000"/>
                <a:lnTo>
                  <a:pt x="0" y="21279"/>
                </a:lnTo>
                <a:arcTo wR="3600" hR="3600" stAng="10800000" swAng="-5400000"/>
                <a:lnTo>
                  <a:pt x="18000" y="24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057400"/>
            <a:ext cx="312444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연말정산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과세표준세율 등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과세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세액공제 산출식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연말정산 기초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연말정산 원천 징수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연말정산 원천 영수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소득세 납세필 증명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8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원천징수 이행상황신고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.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소득자료 제출집계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7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타작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7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 정리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복구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7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ACKUP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7.3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OS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 변환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7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환경 설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63360" y="60948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목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3132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각종 수당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7680" y="1593720"/>
            <a:ext cx="127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각종 수당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453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696320" y="6827760"/>
              <a:ext cx="3234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과세 항목코드는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K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로 정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비고란은 과세항목중 비과세로 지정되는 경우에만 표시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곳에서 등록한 과세항목은 급여등록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계산시 화면에 표시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그러므로 급여계산을 하기전에 필요한 과세항목은 반드시 등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을 해주어야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458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1245600" y="3429000"/>
            <a:ext cx="127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과세 항목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Image31" descr=""/>
          <p:cNvPicPr/>
          <p:nvPr/>
        </p:nvPicPr>
        <p:blipFill>
          <a:blip r:embed="rId2"/>
          <a:stretch/>
        </p:blipFill>
        <p:spPr>
          <a:xfrm>
            <a:off x="2295360" y="3753000"/>
            <a:ext cx="2971800" cy="2342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2971800" y="182880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466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1605960" y="6827760"/>
              <a:ext cx="364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비과세 항목코드는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B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로 정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비고란에는 차량유지는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C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대문자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,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식대에는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S(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대문자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를 입력해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연말정산시 비과세 공제를 받을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곳에서 등록한 비과세항목은 급여등록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계산시 화면에 표시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471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1127520" y="1219320"/>
            <a:ext cx="13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비과세 항목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478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848960" y="6827760"/>
              <a:ext cx="3344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사내공제 항목코드는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G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로 정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사내공제 항목은 급여 지급시 차감되는 부분이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곳에서 등록한 비과세항목은 급여등록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계산시 화면에 표시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그러므로 급여계산시 미리 등록여부를 체크한 다음 급여계산화면으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동하여 급여계산을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483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1157760" y="121932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내공제 항목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Image34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490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756080" y="6827760"/>
              <a:ext cx="3326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소득공제 항목코드는 숫자로 시작하며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자리로 정해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2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비고란은 입력하지 않아도 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(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OS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용에서만 사용되었음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3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이곳에서 등록한 비과세항목은 급여등록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계산시 화면에 표시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급여계산시 인원수를 입력하면 이곳에 등록된 공제액만큼 연말정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시 세액공제를 받는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4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공제금액은 세법에 따라 바뀌는 경우 새로 수정해 주어야 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495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>
            <a:off x="1157760" y="121932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소득공제 항목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Image37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3595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3132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급여 등록 계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7680" y="1593720"/>
            <a:ext cx="127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여 등록 계산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flower3" descr=""/>
          <p:cNvPicPr/>
          <p:nvPr/>
        </p:nvPicPr>
        <p:blipFill>
          <a:blip r:embed="rId1"/>
          <a:stretch/>
        </p:blipFill>
        <p:spPr>
          <a:xfrm>
            <a:off x="990720" y="5786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792440" y="6172200"/>
            <a:ext cx="4063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여 등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에서는 입력한 달의 급여를 계산하는 곳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먼저 급여 지급 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월을 입력해준 다음 엔터키를 누르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월급여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복사할 것인지 물어보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가 선택을 하면 잠시후에 화면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첫번째 사원의 자료가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(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직원의 자료가 바뀐 겨우 반드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갱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눌러 갱신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여를 지급할 경우 상여율과 배분월을 입력해 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엔터를 누르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여지급 기준이 화면에 나타나고 이를 선택한 다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S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만일 사원의 이름이 나타난 상태에서 전달급여를 복사할 경우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월복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선택해 급여를 복사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근태등록는 생산직 사원일 경우에만 나타나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급을 입력하면 근태수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계산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료보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국민연금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글자의 색이 녹색인 부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음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-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입력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면 자동계산을 해주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기로도 입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를 다입력한 다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6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버튼을 눌러 계산을 완료한 후 저장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6124680"/>
            <a:ext cx="5486400" cy="26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447920" y="5862600"/>
            <a:ext cx="60948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990720" y="8915400"/>
            <a:ext cx="5867280" cy="231120"/>
            <a:chOff x="990720" y="8915400"/>
            <a:chExt cx="5867280" cy="231120"/>
          </a:xfrm>
        </p:grpSpPr>
        <p:sp>
          <p:nvSpPr>
            <p:cNvPr id="508" name=""/>
            <p:cNvSpPr/>
            <p:nvPr/>
          </p:nvSpPr>
          <p:spPr>
            <a:xfrm>
              <a:off x="99072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584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28600" y="2437560"/>
            <a:ext cx="1066680" cy="363960"/>
          </a:xfrm>
          <a:prstGeom prst="wedgeRoundRectCallout">
            <a:avLst>
              <a:gd name="adj1" fmla="val 105800"/>
              <a:gd name="adj2" fmla="val -10503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퇴직자를 화면에 표시할 경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2114280"/>
            <a:ext cx="914400" cy="495720"/>
          </a:xfrm>
          <a:prstGeom prst="wedgeRoundRectCallout">
            <a:avLst>
              <a:gd name="adj1" fmla="val -100490"/>
              <a:gd name="adj2" fmla="val 4425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상여율과 배분월을 입력하면 보너스 지급기준이 나타난다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ay1" descr=""/>
          <p:cNvPicPr/>
          <p:nvPr/>
        </p:nvPicPr>
        <p:blipFill>
          <a:blip r:embed="rId2"/>
          <a:stretch/>
        </p:blipFill>
        <p:spPr>
          <a:xfrm>
            <a:off x="1600200" y="189072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513" name="pay2" descr=""/>
          <p:cNvPicPr/>
          <p:nvPr/>
        </p:nvPicPr>
        <p:blipFill>
          <a:blip r:embed="rId3"/>
          <a:stretch/>
        </p:blipFill>
        <p:spPr>
          <a:xfrm>
            <a:off x="2514600" y="327672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838080" y="6172200"/>
            <a:ext cx="5867640" cy="2974320"/>
            <a:chOff x="838080" y="6172200"/>
            <a:chExt cx="5867640" cy="2974320"/>
          </a:xfrm>
        </p:grpSpPr>
        <p:pic>
          <p:nvPicPr>
            <p:cNvPr id="517" name="flower3" descr=""/>
            <p:cNvPicPr/>
            <p:nvPr/>
          </p:nvPicPr>
          <p:blipFill>
            <a:blip r:embed="rId1"/>
            <a:stretch/>
          </p:blipFill>
          <p:spPr>
            <a:xfrm>
              <a:off x="838080" y="6172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1530000" y="6827760"/>
              <a:ext cx="39628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Univers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8)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속득공제인원의 입력은 연말정산 기초 입력에서 해주어도 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8)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커서의 위치에 상관없이 계산할 수 있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9)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다음 사원으로의 이동은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F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검색 버튼과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PgDn, PgUp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키를 사용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0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새로운 직원이 입사하거나 삭제한 경우에는 반드시 인사갱신버튼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 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눌러 자료를 정리한 다음 급여를 계산한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11)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급여와 상여가 같이 지급되는 경우도 이 화면에서 계산해 준다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14400" y="6553080"/>
              <a:ext cx="5486400" cy="198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1295280" y="6248520"/>
              <a:ext cx="609840" cy="30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굴림체"/>
                </a:rPr>
                <a:t>작업순서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  <a:ea typeface="굴림체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838080" y="8915400"/>
              <a:ext cx="5867640" cy="231120"/>
              <a:chOff x="838080" y="8915400"/>
              <a:chExt cx="5867640" cy="231120"/>
            </a:xfrm>
          </p:grpSpPr>
          <p:sp>
            <p:nvSpPr>
              <p:cNvPr id="522" name=""/>
              <p:cNvSpPr/>
              <p:nvPr/>
            </p:nvSpPr>
            <p:spPr>
              <a:xfrm>
                <a:off x="838080" y="8915400"/>
                <a:ext cx="586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23920" y="8915400"/>
                <a:ext cx="798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Univers"/>
                  </a:rPr>
                  <a:t>인사급여관리시스템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1182960" y="1219320"/>
            <a:ext cx="151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너스 지급기준 선택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Image411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3733920" cy="2614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96372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상여금 등록 계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09160" y="1593720"/>
            <a:ext cx="13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 등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flower3" descr=""/>
          <p:cNvPicPr/>
          <p:nvPr/>
        </p:nvPicPr>
        <p:blipFill>
          <a:blip r:embed="rId2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949760" y="6629400"/>
            <a:ext cx="363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여금 등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에서는 급여가 지급된 달에서 상여를 따로 지급할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여율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배분월을 정해주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너지 지급기준을 선택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4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누르면 보너스 지급기준에서 정해준 내용에 따라 상여금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금의 경우 수기로 입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536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638680" y="4266720"/>
            <a:ext cx="990720" cy="626760"/>
          </a:xfrm>
          <a:prstGeom prst="wedgeRoundRectCallout">
            <a:avLst>
              <a:gd name="adj1" fmla="val -80435"/>
              <a:gd name="adj2" fmla="val 4532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선택한 달까지의 과세표준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산출세액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세액공제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나타난다</a:t>
            </a:r>
            <a:r>
              <a:rPr b="1" lang="ko-KR" sz="8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92088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급여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05640" y="159372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여대장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977480" y="6629400"/>
            <a:ext cx="33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내용에서 일반은 근태사항은 출력하지 않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형태에서 전체출력을 선택하면 사원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합계모두 출력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페이지 상태가 연속일 경우 페이지 제목을 출력하지 않고 계속 이어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549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3143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188360" y="114300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여대장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556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8" name="Image44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96372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상여금 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11400" y="1593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 대장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977480" y="6629400"/>
            <a:ext cx="33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형태에서 전체출력을 선택하면 사원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합계모두 출력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페이지 상태가 연속일 경우 페이지 제목을 출력하지 않고 계속 이어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568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3581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121068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1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인사급여관리시스템 개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188360" y="114300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대장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575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7" name="Image45-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21960" y="1119240"/>
            <a:ext cx="15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급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상여 대장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06000" y="159372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 대장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586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977480" y="6629400"/>
            <a:ext cx="33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내용에서 일반은 근태사항은 출력하지 않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형태에서 전체출력을 선택하면 사원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합계모두 출력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페이지 상태가 연속일 경우 페이지 제목을 출력하지 않고 계속 이어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182960" y="1143000"/>
            <a:ext cx="17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대장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594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Image44-1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191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914760" y="1119240"/>
            <a:ext cx="147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8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봉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명세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00240" y="1593720"/>
            <a:ext cx="168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봉투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명세서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605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1821600" y="6629400"/>
            <a:ext cx="297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내용에서 일반은 근태사항은 출력하지 않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옵션에서 원하는 출력형태를 선택하여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원번호를 입력하지 않으면 전 사원을 대상으로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182960" y="1143000"/>
            <a:ext cx="17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봉투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명세서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613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5" name="Image46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581640" cy="2514600"/>
          </a:xfrm>
          <a:prstGeom prst="rect">
            <a:avLst/>
          </a:prstGeom>
          <a:ln w="0">
            <a:noFill/>
          </a:ln>
        </p:spPr>
      </p:pic>
      <p:pic>
        <p:nvPicPr>
          <p:cNvPr id="616" name="Image44-2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956520" y="1119240"/>
            <a:ext cx="13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9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금융기관별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36240" y="1593720"/>
            <a:ext cx="155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금융기관별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625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803960" y="6629400"/>
            <a:ext cx="292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행별 급여지급내역을 인쇄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218960" y="114300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금융기관별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633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5" name="Image45-5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965160" y="111924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10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간별 총액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41640" y="1593720"/>
            <a:ext cx="159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간별 총액 출력 선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644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977480" y="6629400"/>
            <a:ext cx="33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여기간을 지정된 월만큼 합계를 출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부서를 지정하지 않으면 전부 출력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페이지 상태가 연속일 경우 페이지 제목을 출력하지 않고 계속 이어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방향은 화면과 프린터를 선택하여 결과를 볼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157760" y="114300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간별 프린터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급여관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652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4" name="Image45-7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11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5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퇴  직  정  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5105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357200"/>
            <a:ext cx="58676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BASE CAMP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리즈 중 인사급여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연말정산 프로그램은 모든 업체의 인적자원을 대상으로 반드시 필요한 전산화 업무인 동시에 기본적인 기업 관리 시스템 입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본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급여 프로그램은 매월 반복 지급되는 급여와 정기적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또는 비정기적으로 지급되는 상여금에서 발생하는 원천징수 세액 계산을 효율적으로 관리하므로 변화하는 환경의 여건에 즉각적으로 대응 할 수 있는 합리적인 관리 시스템입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경영자를 위한 유용한 인사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급여 보고서 등 다양한 보고서가 출력되기 때문에 어떤 조건에 해당하는 사원 리스트를 조회하거나 작성할 때 신속 정확하게 대행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급여 관리 프로그램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BASE CAMP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은 업무가 변경되거나 세율의 변경 또는 추가시 사용자가 직접 수정할 수 있고 도움말의 기능을 최대한 부여하여 대부분 화면상에서 작업하는 도중에 도움말을 활용할 수 있기 때문에 사용법이 간편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사급여 관리시스템의 특징은 다음과 같습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상여금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의료보험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국민연금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세법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재형기금을 자동산출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퇴직자의 세액 환급분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징수분이 자동으로 계산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영수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징수부를 출력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매년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월까지 회사의 근무자를 연말 정산 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근무중 중도에 외국 또는 지방 발령일 경우 중도 연말정산도  가능 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연말정산 징수부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원천영수증 출력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5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사입력 기초작업시 호봉순에 의해 오름차순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내림차순을 결정할 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제조업체일 경우 근태계산을 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32920"/>
            <a:ext cx="1295640" cy="5313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제 </a:t>
            </a: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1 </a:t>
            </a: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55360" y="3078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인사급여 관리시스템 개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915400"/>
            <a:ext cx="586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3920" y="8915400"/>
            <a:ext cx="79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Univers"/>
              </a:rPr>
              <a:t>인사급여관리시스템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"/>
          <p:cNvGrpSpPr/>
          <p:nvPr/>
        </p:nvGrpSpPr>
        <p:grpSpPr>
          <a:xfrm>
            <a:off x="457200" y="232920"/>
            <a:ext cx="6248520" cy="1643760"/>
            <a:chOff x="457200" y="232920"/>
            <a:chExt cx="6248520" cy="1643760"/>
          </a:xfrm>
        </p:grpSpPr>
        <p:grpSp>
          <p:nvGrpSpPr>
            <p:cNvPr id="658" name=""/>
            <p:cNvGrpSpPr/>
            <p:nvPr/>
          </p:nvGrpSpPr>
          <p:grpSpPr>
            <a:xfrm>
              <a:off x="609480" y="232920"/>
              <a:ext cx="1618200" cy="1643760"/>
              <a:chOff x="609480" y="232920"/>
              <a:chExt cx="1618200" cy="1643760"/>
            </a:xfrm>
          </p:grpSpPr>
          <p:sp>
            <p:nvSpPr>
              <p:cNvPr id="659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5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2840" y="1125360"/>
                <a:ext cx="125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5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퇴직사원 등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989640" y="1600200"/>
                <a:ext cx="1238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1.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퇴직사원 등록 화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퇴직정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flower3" descr=""/>
          <p:cNvPicPr/>
          <p:nvPr/>
        </p:nvPicPr>
        <p:blipFill>
          <a:blip r:embed="rId1"/>
          <a:stretch/>
        </p:blipFill>
        <p:spPr>
          <a:xfrm>
            <a:off x="838080" y="52722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15760" y="5670720"/>
            <a:ext cx="38455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해에 퇴직자에 대한 자료를 등록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도를 선택하면 그 해의 퇴직사원의 자료가 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자를 등록할 경우 사원번호를 입력하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 사원이 있을 경우 근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간을 계산하여 화면에 표시되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없을 경우 메시지와 함께 재입력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자로 등록이 되면 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장의 인사 입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 화면에 퇴사여부에 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표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등록되며 급여 및 상여 계산에서 제외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자를 다시 삭제하면 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장의 인사 입력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 화면에 퇴사여부에 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없어지며 급여 및 상여 계산에 다시 포함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자로 등록된 사원은 퇴직정산을 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날짜는 수기로 입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14400" y="5638680"/>
            <a:ext cx="5486400" cy="289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295280" y="5348160"/>
            <a:ext cx="60984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669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426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03500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5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퇴직정산 원천 징수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28040" y="1593720"/>
            <a:ext cx="20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퇴직정산 원천 징수부 등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퇴직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680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028960" y="6629400"/>
            <a:ext cx="352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정산 원천 징수부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의 화면으로 구성되어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사원에 대한 징수부와 영수증을 한번에 같이 계산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도를 선택하고 엔터키를 누르면 퇴직사원 등로화면에서 등록한 자료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징수부를 계산할 때 영수증도 같이 계산해주므로 먼저 기본적인 데이타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하고 저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입력이 끝나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4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눌러 계산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시 바로 프린터로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Image52" descr=""/>
          <p:cNvPicPr/>
          <p:nvPr/>
        </p:nvPicPr>
        <p:blipFill>
          <a:blip r:embed="rId2"/>
          <a:stretch/>
        </p:blipFill>
        <p:spPr>
          <a:xfrm>
            <a:off x="3960720" y="4033800"/>
            <a:ext cx="2440080" cy="1752480"/>
          </a:xfrm>
          <a:prstGeom prst="rect">
            <a:avLst/>
          </a:prstGeom>
          <a:ln w="0">
            <a:noFill/>
          </a:ln>
        </p:spPr>
      </p:pic>
      <p:pic>
        <p:nvPicPr>
          <p:cNvPr id="684" name="Image50" descr=""/>
          <p:cNvPicPr/>
          <p:nvPr/>
        </p:nvPicPr>
        <p:blipFill>
          <a:blip r:embed="rId3"/>
          <a:stretch/>
        </p:blipFill>
        <p:spPr>
          <a:xfrm>
            <a:off x="1065240" y="2205000"/>
            <a:ext cx="2440080" cy="1757520"/>
          </a:xfrm>
          <a:prstGeom prst="rect">
            <a:avLst/>
          </a:prstGeom>
          <a:ln w="0">
            <a:noFill/>
          </a:ln>
        </p:spPr>
      </p:pic>
      <p:pic>
        <p:nvPicPr>
          <p:cNvPr id="685" name="Image51" descr=""/>
          <p:cNvPicPr/>
          <p:nvPr/>
        </p:nvPicPr>
        <p:blipFill>
          <a:blip r:embed="rId4"/>
          <a:stretch/>
        </p:blipFill>
        <p:spPr>
          <a:xfrm>
            <a:off x="3960720" y="2205000"/>
            <a:ext cx="2440080" cy="1757520"/>
          </a:xfrm>
          <a:prstGeom prst="rect">
            <a:avLst/>
          </a:prstGeom>
          <a:ln w="0">
            <a:noFill/>
          </a:ln>
        </p:spPr>
      </p:pic>
      <p:pic>
        <p:nvPicPr>
          <p:cNvPr id="686" name="Image50-1" descr=""/>
          <p:cNvPicPr/>
          <p:nvPr/>
        </p:nvPicPr>
        <p:blipFill>
          <a:blip r:embed="rId5"/>
          <a:stretch/>
        </p:blipFill>
        <p:spPr>
          <a:xfrm>
            <a:off x="1065240" y="4033800"/>
            <a:ext cx="24400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09520" y="114300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4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퇴직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691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3" name="Image52-1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581280" cy="243072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127520" y="4830840"/>
            <a:ext cx="13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쇄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Image51-1" descr=""/>
          <p:cNvPicPr/>
          <p:nvPr/>
        </p:nvPicPr>
        <p:blipFill>
          <a:blip r:embed="rId2"/>
          <a:stretch/>
        </p:blipFill>
        <p:spPr>
          <a:xfrm>
            <a:off x="2057400" y="5410080"/>
            <a:ext cx="3733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03500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5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퇴직정산 원천 영수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28040" y="1593720"/>
            <a:ext cx="20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퇴직정산 원천 영수증 등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퇴직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04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002320" y="6629400"/>
            <a:ext cx="343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정산 원천 영수증은 징수부의 계산시 같이 계산되므로 따로 계산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가 없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징수부에서 같이 계산이 되므로 미리 기본적인 데이터를 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시 바로 프린터로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4495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6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연  말  정  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066680" y="3567240"/>
            <a:ext cx="50292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457200" y="232920"/>
            <a:ext cx="6248520" cy="1643760"/>
            <a:chOff x="457200" y="232920"/>
            <a:chExt cx="6248520" cy="1643760"/>
          </a:xfrm>
        </p:grpSpPr>
        <p:grpSp>
          <p:nvGrpSpPr>
            <p:cNvPr id="711" name=""/>
            <p:cNvGrpSpPr/>
            <p:nvPr/>
          </p:nvGrpSpPr>
          <p:grpSpPr>
            <a:xfrm>
              <a:off x="609480" y="232920"/>
              <a:ext cx="1862280" cy="1643760"/>
              <a:chOff x="609480" y="232920"/>
              <a:chExt cx="1862280" cy="1643760"/>
            </a:xfrm>
          </p:grpSpPr>
          <p:sp>
            <p:nvSpPr>
              <p:cNvPr id="712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6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34120" y="1125360"/>
                <a:ext cx="146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6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과세표준 세율등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050840" y="1600200"/>
                <a:ext cx="1420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Univers"/>
                  </a:rPr>
                  <a:t>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1.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과세표준 세율등록 화면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연말정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flower3" descr=""/>
          <p:cNvPicPr/>
          <p:nvPr/>
        </p:nvPicPr>
        <p:blipFill>
          <a:blip r:embed="rId1"/>
          <a:stretch/>
        </p:blipFill>
        <p:spPr>
          <a:xfrm>
            <a:off x="8380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1774800" y="6751800"/>
            <a:ext cx="3214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 및 퇴직정산을 하기전에 꼭 정확한 자료가 입력되었는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해의 세법에 따라  과세표준 누진세액을 등록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법이 바뀔때마다 수정이 가능하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락드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144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295280" y="6248520"/>
            <a:ext cx="60984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722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4" name="Image5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963720" y="1119240"/>
            <a:ext cx="13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과세 공식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48040" y="1593720"/>
            <a:ext cx="132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비과세 공식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33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1785600" y="6705720"/>
            <a:ext cx="284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종 수당에 대한 비과세 범위를 등록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퇴직정산과 연말정산시 이용되므로 정확이 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Image56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03500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세액공제 산출식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09240" y="1593720"/>
            <a:ext cx="151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세액공제 산출식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45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1932120" y="6629400"/>
            <a:ext cx="3620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액공제 산출식 등록은 퇴직정산과 연말정산시 세액공제를 계산하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한 곳이므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법이 바뀔 경우 반드시 재등록 해주어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만일 이곳에서 빈칸이 있을 경우 연말정산 계산시 에러가 나므로 반드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 계산을 하기전에  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무서에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월과 다음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월사이 연말정산 책자를 제공하므로 참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여 수정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2438280" y="3276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994320" y="11192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연말정산 기초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41280" y="159372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연말정산 기초 입력 등록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58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1954800" y="6629400"/>
            <a:ext cx="342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을 하기 전에 반드시 입력해 주어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도를 선택한 다음 엔터키를 누르면 사원의 자료가 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득공제 인원등 필요한 내용을 빠짐없이 입력해 주어야 연말정산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올바른 세액공제를 받을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02996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연말정산 원천 징수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97800" y="1593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연정산 원천 징수부 등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70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2032920" y="6629400"/>
            <a:ext cx="352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 원천 징수부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의 화면으로 구성되어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사원에 대한 징수부와 영수증을 한번에 같이 계산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도를 선택하면 사원에 대한 자료가 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징수부를 계산할 때 영수증도 같이 계산해주므로 먼저 기본적인 데이타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하고 저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입력이 끝나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4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를 눌러 계산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시 바로 프린터로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8320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3948120" y="2195640"/>
            <a:ext cx="2452680" cy="18428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4"/>
          <a:stretch/>
        </p:blipFill>
        <p:spPr>
          <a:xfrm>
            <a:off x="981000" y="4081320"/>
            <a:ext cx="2600280" cy="17859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5"/>
          <a:stretch/>
        </p:blipFill>
        <p:spPr>
          <a:xfrm>
            <a:off x="3938760" y="4057560"/>
            <a:ext cx="2462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1295280"/>
            <a:ext cx="556272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의 업무 환경에 맞는 시스템의 초기값을 설정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회사명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사업자등록번호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표자 성명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주소등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을 설정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어떤 조건에 해당되는 사원의 리스트를 조회하거나 보고서를  작성하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자 할 경우  바로 작성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9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경영자를 위한 유용한 인사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급여 보고서를 제공합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0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도움말의 기능을 최대한 부여하여 사용법이 간편합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1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사에 관한 모든 서류를 출력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사 기록 카드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병역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학력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자격증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사원명부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각종증명서등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8915400"/>
            <a:ext cx="586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3920" y="8915400"/>
            <a:ext cx="79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Univers"/>
              </a:rPr>
              <a:t>인사급여관리시스템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47520" y="60948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개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109520" y="114300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4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781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1127520" y="4830840"/>
            <a:ext cx="13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쇄키를 눌렀을 경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Image60-5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785" name="Image60-6" descr=""/>
          <p:cNvPicPr/>
          <p:nvPr/>
        </p:nvPicPr>
        <p:blipFill>
          <a:blip r:embed="rId2"/>
          <a:stretch/>
        </p:blipFill>
        <p:spPr>
          <a:xfrm>
            <a:off x="2057400" y="5410080"/>
            <a:ext cx="3733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02996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연말정산 원천 영수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28040" y="1593720"/>
            <a:ext cx="20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연말정산 원천 영수증 등록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산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794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002320" y="6629400"/>
            <a:ext cx="343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 원천 영수증은 징수부의 계산시 같이 계산되므로 따로 계산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가 없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징수부에서 같이 계산이 되므로 미리 기본적인 데이터를 입력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요시 바로 프린터로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02996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득세 납세필 증명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98880" y="1593720"/>
            <a:ext cx="17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소득세 납세필 증명서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06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1985040" y="6629400"/>
            <a:ext cx="34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득세 납세필 증명서는 연말정산 자료를 바탕으로 출력하므로 반드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말정산을 하고 난 다음 이용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무서에 제출할 일이 있는 사원의 번호를 입력하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년간의 자료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나타나고 바로 인쇄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1676520" y="2038320"/>
            <a:ext cx="3962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086120" y="1119240"/>
            <a:ext cx="205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8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원천징수 이행상황 신고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327320" y="1593720"/>
            <a:ext cx="21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원천징수 이행상황 신고서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18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997280" y="6629400"/>
            <a:ext cx="3541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천징수 이행상황신고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2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매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 갑종근로소득세의 내역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세무서에 제출할 경우 같이 작성하여 제출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여를 지급한 달을 선택한후 엔터키를 누르면 기본자료가 정산되어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나타나며 사용자가 수기로 수정하거나 입력해 줄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를 입력한 후 계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눌러 계산을 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을 끝마친 후 인쇄버튼을 누르면 프린터를 통하여 출력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029960" y="11192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.9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득자료 제출 집계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7080" y="1593720"/>
            <a:ext cx="17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소득자료 제출 집계표 출력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연말정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30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1979640" y="6629400"/>
            <a:ext cx="34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천징수 이행상황신고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같이 세무서에 제출하는 서식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달을 선택후 엔터키를 누르면 자동으로 자료가 화면에 나타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를 수정하여 출력할 수도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을 끝마친 후 인쇄버튼을 누르면 프린터를 통하여 출력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5081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447920" y="1173960"/>
            <a:ext cx="3962160" cy="13492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제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7 </a:t>
            </a: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기  타  작  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1224000" y="3809880"/>
            <a:ext cx="4871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001880" y="111924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7.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 정리 복구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11400" y="1593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정리 복구 작업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타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44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2008080" y="6629400"/>
            <a:ext cx="347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정리 복구 작업은 이미 파일로 등록되어 있는 인사관리 자료를 복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 수행 중 데이터가 틀리거나 바르게 수행되지 않을 때 자료를 다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복구하여 작업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3810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807840" y="1119240"/>
            <a:ext cx="184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7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BACKUP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59480" y="1593720"/>
            <a:ext cx="17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BACKUP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작업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타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56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1838880" y="6629400"/>
            <a:ext cx="364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ACKU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은 파일로 등록되어 있는 인사관리 파일들에 대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백업파일을 만들어 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35812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933840" y="111924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7.3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OS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 변환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59200" y="1593720"/>
            <a:ext cx="163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OS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변환 작업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타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68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1809720" y="6629400"/>
            <a:ext cx="3733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변환 작업은 기존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작업하던 인사관리 시스템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DOW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전으로 변환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DOW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에서 작업할 수 있도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러므로 이 작업은 처음에 한 번만 해주면 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257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037520" y="111924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7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스템 환경 설정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08240" y="1593720"/>
            <a:ext cx="181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환경 설정 작업 출력 화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396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5144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타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flower3" descr=""/>
          <p:cNvPicPr/>
          <p:nvPr/>
        </p:nvPicPr>
        <p:blipFill>
          <a:blip r:embed="rId1"/>
          <a:stretch/>
        </p:blipFill>
        <p:spPr>
          <a:xfrm>
            <a:off x="987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1063800" y="6553080"/>
            <a:ext cx="548640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444680" y="6248520"/>
            <a:ext cx="6094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굴림체"/>
              </a:rPr>
              <a:t>작업순서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굴림체"/>
              <a:ea typeface="굴림체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987480" y="8915400"/>
            <a:ext cx="5867280" cy="231120"/>
            <a:chOff x="987480" y="8915400"/>
            <a:chExt cx="5867280" cy="231120"/>
          </a:xfrm>
        </p:grpSpPr>
        <p:sp>
          <p:nvSpPr>
            <p:cNvPr id="880" name=""/>
            <p:cNvSpPr/>
            <p:nvPr/>
          </p:nvSpPr>
          <p:spPr>
            <a:xfrm>
              <a:off x="987480" y="8915400"/>
              <a:ext cx="58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7260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949760" y="6629400"/>
            <a:ext cx="3331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사급여를 사용자의 편의에 따라 환경을 설정하여 작업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갑근세 수작업 처리는 자동계산과 사용자가 임으로 수정하거나 입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할 수 있는 수작업처리가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을 통해 출력물을 뽑을 때 폼 크기를 결정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사에서의 직급을 오름차순 혹은 내림차순으로 정렬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설정을 한 후 저장 버튼을 누르면 계속 그 형태가 유지되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차후에 다시 설정을 변경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350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47640" y="1487520"/>
            <a:ext cx="1219320" cy="1390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88748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581840"/>
            <a:ext cx="100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부서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직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격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금융기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보험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국민연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회사등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57680" y="154476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24120" y="162144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기초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4880" y="2562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인사관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4880" y="3724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급여관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57680" y="497376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4880" y="5076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퇴직정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57680" y="670716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34880" y="6791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연말정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775476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34880" y="7839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기타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3280" y="18111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76640" y="1792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0920" y="164628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회사전체의 기초사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등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95720" y="26877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16240" y="2421000"/>
            <a:ext cx="114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회사의 모든 급여대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의 인사관련사항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모두 등록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수정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95720" y="3887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73400" y="3360600"/>
            <a:ext cx="1109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급여수당 조정가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상여금 자동산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재형기금 자동산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의료보험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국민연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동산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세법 자동 산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95720" y="52401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84560" y="4713120"/>
            <a:ext cx="1263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퇴직자 등록시 급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및 상여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기타사항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서 모두 사라진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퇴직자의 영수증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징수부를 출력할 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있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퇴직자의 세액 환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분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징수분 자동 계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76640" y="69548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83120" y="6541920"/>
            <a:ext cx="122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회사의 근무자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연말정산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중도연말정산도 가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징수부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영수증 산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7964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47120" y="7551720"/>
            <a:ext cx="10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인사</a:t>
            </a:r>
            <a:r>
              <a:rPr b="1" lang="en-US" sz="1200" spc="-1" strike="noStrike">
                <a:solidFill>
                  <a:srgbClr val="000000"/>
                </a:solidFill>
                <a:latin typeface="Univers"/>
              </a:rPr>
              <a:t>SET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료복구 및 백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도스화일을 윈도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파일로 변환 가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83640" y="690120"/>
            <a:ext cx="1890360" cy="340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인사급여 관리 시스템 업무 흐름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2116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95416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173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4687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7221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38080" y="8974080"/>
            <a:ext cx="5867640" cy="231120"/>
            <a:chOff x="838080" y="8974080"/>
            <a:chExt cx="5867640" cy="231120"/>
          </a:xfrm>
        </p:grpSpPr>
        <p:sp>
          <p:nvSpPr>
            <p:cNvPr id="101" name=""/>
            <p:cNvSpPr/>
            <p:nvPr/>
          </p:nvSpPr>
          <p:spPr>
            <a:xfrm>
              <a:off x="838080" y="897408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23920" y="897408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895480" y="2478240"/>
            <a:ext cx="1143000" cy="47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363996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600200" y="1215000"/>
            <a:ext cx="3962520" cy="120888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인사급여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연말정산 출력자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26760" y="5757840"/>
            <a:ext cx="19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인사급여 관리 시스템 메인 화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8080" y="8915400"/>
            <a:ext cx="5867640" cy="231120"/>
            <a:chOff x="838080" y="8915400"/>
            <a:chExt cx="5867640" cy="231120"/>
          </a:xfrm>
        </p:grpSpPr>
        <p:sp>
          <p:nvSpPr>
            <p:cNvPr id="107" name=""/>
            <p:cNvSpPr/>
            <p:nvPr/>
          </p:nvSpPr>
          <p:spPr>
            <a:xfrm>
              <a:off x="838080" y="8915400"/>
              <a:ext cx="58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23920" y="89154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Univers"/>
                </a:rPr>
                <a:t>인사급여관리시스템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47520" y="60948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인사급여관리시스템 개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333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6T02:16:58Z</dcterms:created>
  <dc:creator>이희숙</dc:creator>
  <dc:description/>
  <dc:language>en-US</dc:language>
  <cp:lastModifiedBy>dt</cp:lastModifiedBy>
  <cp:lastPrinted>1999-09-27T09:42:55Z</cp:lastPrinted>
  <dcterms:modified xsi:type="dcterms:W3CDTF">2002-01-25T02:24:26Z</dcterms:modified>
  <cp:revision>168</cp:revision>
  <dc:subject/>
  <dc:title>슬라이드 제목 없음</dc:title>
</cp:coreProperties>
</file>