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6858000" cy="9144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B21-E28A-4548-B26D-7F0167E6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228-C1CA-4AEC-9960-E6AE9CCB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8B5-9A6A-4832-8AB6-5EFB4552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70F-181B-43C0-91B5-8AC8A250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0F7-F634-4DAC-822B-4F0FCBD1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70C-FBB8-4D47-A1D8-21B9C7A0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A45-A619-4A10-BD40-5F8152C2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63B-62AE-40E3-BE9A-DB6CA171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72F-76E2-45C1-8EEF-A6203361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A98-17B7-4700-B4F7-BAB51FD4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397E-2A8C-4AAA-95B0-F5F5A57B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D77-167A-471E-B89E-619401DE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C3EE-917A-4197-AC9A-0AC3F2DCF210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9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9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4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45.png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9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4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45.png"/><Relationship Id="rId1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9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49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0.png"/><Relationship Id="rId1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9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4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0.png"/><Relationship Id="rId1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9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4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0.png"/><Relationship Id="rId1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56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7.png"/><Relationship Id="rId1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56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7.png"/><Relationship Id="rId1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0.png"/><Relationship Id="rId8" Type="http://schemas.openxmlformats.org/officeDocument/2006/relationships/image" Target="../media/image44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9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0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1.png"/><Relationship Id="rId1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9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1280" y="723888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뉴론 데이터 시스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57160" y="5180760"/>
            <a:ext cx="11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2000. 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09960"/>
            <a:ext cx="3289320" cy="69336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Univers"/>
                <a:ea typeface="굴림체"/>
              </a:rPr>
              <a:t>자재 관리 시스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5315040" cy="3983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88440" y="609480"/>
            <a:ext cx="87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시스템개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0240" y="990720"/>
            <a:ext cx="1863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.5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메인화면 설명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84240" y="1590480"/>
            <a:ext cx="99396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인 화면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523880" y="1790640"/>
            <a:ext cx="1828800" cy="723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819520"/>
            <a:ext cx="83808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85800" y="3352680"/>
            <a:ext cx="1905120" cy="3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40766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61960" y="5028840"/>
            <a:ext cx="10382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57200" y="5486040"/>
            <a:ext cx="213372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5800" y="6171840"/>
            <a:ext cx="1295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962160" y="2095560"/>
            <a:ext cx="60948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1510200"/>
            <a:ext cx="344520" cy="390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653200"/>
            <a:ext cx="344520" cy="390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263760"/>
            <a:ext cx="344520" cy="390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3852000"/>
            <a:ext cx="344520" cy="43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5015520"/>
            <a:ext cx="344520" cy="390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472720"/>
            <a:ext cx="344520" cy="390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6235560"/>
            <a:ext cx="344520" cy="390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1738800"/>
            <a:ext cx="344520" cy="390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56560" y="6705720"/>
            <a:ext cx="3519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기본메뉴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프로그램에서 사용되는 기능을 나타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작업전월</a:t>
            </a:r>
            <a:r>
              <a:rPr b="0" lang="en-US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작업전월을 표시하여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작업다음월</a:t>
            </a:r>
            <a:r>
              <a:rPr b="0" lang="en-US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작업다음월을 표시하여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작업월표시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재 선택된 작업일자를 표시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재날짜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청구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발주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입고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출고 상황을 간략하게 표시해준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일자를 누르면 오른쪽 메뉴부분에 간략한 상황이 표시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6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시스템일자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재 시스템의 일자를 표시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7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도움말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프로그램 사용에 필요한 도움말을 상황에 따라 표시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8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회사명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사용자의 회사명을 표시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9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기본메뉴버튼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프로그램 화면상단의 메뉴와 동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0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실행버튼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해당하는 작업화면을 실행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581280" y="2895480"/>
            <a:ext cx="281952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2653200"/>
            <a:ext cx="344520" cy="433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3924360"/>
            <a:ext cx="1676520" cy="723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02440" y="3567600"/>
            <a:ext cx="530280" cy="390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8440" y="609480"/>
            <a:ext cx="87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시스템개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0240" y="990720"/>
            <a:ext cx="1863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.5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메인화면 설명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84960" y="1590480"/>
            <a:ext cx="99396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인 화면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4419720"/>
            <a:ext cx="10670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4253400"/>
            <a:ext cx="344520" cy="390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04960" y="1676520"/>
            <a:ext cx="60948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9880" y="1510200"/>
            <a:ext cx="344520" cy="390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038480" y="1676520"/>
            <a:ext cx="106704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1510200"/>
            <a:ext cx="344520" cy="390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33520" y="5028840"/>
            <a:ext cx="11430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5015520"/>
            <a:ext cx="344520" cy="390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20120" y="6705720"/>
            <a:ext cx="3378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일자버튼을 누르면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의 화면이 나타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사각모양의 표시는 청구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발주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입고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출고 자료의 유무를 표시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버튼을 누르면 해당 자료가 표시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해당 자료를 간략하게 표시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버튼을 누르면 메인화면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 돌아간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714640" y="1676520"/>
            <a:ext cx="60948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510200"/>
            <a:ext cx="344520" cy="390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304920" y="150120"/>
            <a:ext cx="6248160" cy="1632240"/>
            <a:chOff x="304920" y="150120"/>
            <a:chExt cx="6248160" cy="1632240"/>
          </a:xfrm>
        </p:grpSpPr>
        <p:grpSp>
          <p:nvGrpSpPr>
            <p:cNvPr id="229" name=""/>
            <p:cNvGrpSpPr/>
            <p:nvPr/>
          </p:nvGrpSpPr>
          <p:grpSpPr>
            <a:xfrm>
              <a:off x="456840" y="150120"/>
              <a:ext cx="1295280" cy="1632240"/>
              <a:chOff x="456840" y="150120"/>
              <a:chExt cx="1295280" cy="1632240"/>
            </a:xfrm>
          </p:grpSpPr>
          <p:sp>
            <p:nvSpPr>
              <p:cNvPr id="230" name=""/>
              <p:cNvSpPr/>
              <p:nvPr/>
            </p:nvSpPr>
            <p:spPr>
              <a:xfrm>
                <a:off x="456840" y="150120"/>
                <a:ext cx="1295280" cy="531360"/>
              </a:xfrm>
              <a:prstGeom prst="horizontalScroll">
                <a:avLst>
                  <a:gd name="adj" fmla="val 12500"/>
                </a:avLst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제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2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7400" y="1042560"/>
                <a:ext cx="99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2. 1 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자재등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83920" y="1508040"/>
                <a:ext cx="18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284040"/>
              <a:ext cx="6248160" cy="471600"/>
              <a:chOff x="304920" y="284040"/>
              <a:chExt cx="6248160" cy="471600"/>
            </a:xfrm>
          </p:grpSpPr>
          <p:sp>
            <p:nvSpPr>
              <p:cNvPr id="234" name=""/>
              <p:cNvSpPr/>
              <p:nvPr/>
            </p:nvSpPr>
            <p:spPr>
              <a:xfrm>
                <a:off x="2281320" y="2840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Univers"/>
                  </a:rPr>
                  <a:t>기초작업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04920" y="755640"/>
                <a:ext cx="6248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" name=""/>
          <p:cNvSpPr/>
          <p:nvPr/>
        </p:nvSpPr>
        <p:spPr>
          <a:xfrm>
            <a:off x="619200" y="6858000"/>
            <a:ext cx="5676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Univer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대분류 코드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대분류 코드는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로  구성되며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와 문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혼용해서 사용가능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는 유일해야 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반드시 기입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7543800"/>
            <a:ext cx="57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Univer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대분류 명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대분류 명을  한글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영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로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구성되며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와 문자를  혼용해서 사용가능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반드시 기입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18440" y="1895400"/>
            <a:ext cx="133704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자재 대분류등록 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2095560" cy="3571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410080" y="2585880"/>
            <a:ext cx="990720" cy="726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소모자재 등록화면을 호출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581280" y="2895120"/>
            <a:ext cx="182880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441440"/>
            <a:ext cx="16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 1. 1 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자재 대분류등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54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7040" y="1895400"/>
            <a:ext cx="127620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소모 자재 등록 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8040" y="1119240"/>
            <a:ext cx="9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 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5410080" cy="3886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114800" y="1395000"/>
            <a:ext cx="990720" cy="519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대분류를 먼저 선택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819520" y="1600200"/>
            <a:ext cx="129528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00840" y="6781680"/>
            <a:ext cx="42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코드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코드는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로 구성되며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와 문자를  혼용해서 사용가능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는 유일해야 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반드시 기입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52520" y="7286760"/>
            <a:ext cx="447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명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명은 한글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5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영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0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로 구성되며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와 문자를  혼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해서 사용가능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반드시 기입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22560" y="7824960"/>
            <a:ext cx="33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기타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다음은 해당 자재의 규격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단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단가를  입력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85240" y="1441440"/>
            <a:ext cx="154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 1. 2 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소모 자재 등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37600" y="1895400"/>
            <a:ext cx="148932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가설재 대분류 등록 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040" y="1119240"/>
            <a:ext cx="9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 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31080" y="6781680"/>
            <a:ext cx="430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코드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코드는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로 구성되며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와 문자를  혼용해서 사용가능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는 유일해야 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반드시 기입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83120" y="7286760"/>
            <a:ext cx="457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명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명은 한글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5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영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0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로 구성되며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와 문자를  혼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해서 사용가능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반드시 기입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01480" y="7824960"/>
            <a:ext cx="421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단위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영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로 구성되며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와 문자를  혼용해서 사용가능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56160" y="1441440"/>
            <a:ext cx="175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 1. 3 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가설재 대분류 등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2781360" cy="3571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 flipH="1">
            <a:off x="3886200" y="2133720"/>
            <a:ext cx="12952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1926720"/>
            <a:ext cx="990720" cy="519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 등록화면을 호출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37600" y="1895400"/>
            <a:ext cx="148932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가설재 대분류 등록 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040" y="1119240"/>
            <a:ext cx="9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 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5410080" cy="38862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114800" y="1395000"/>
            <a:ext cx="990720" cy="519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대분류를 먼저 선택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666880" y="1600200"/>
            <a:ext cx="144792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61680" y="6781680"/>
            <a:ext cx="439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코드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코드는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6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로 구성되며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와 문자를  혼용해서 사용가능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는 유일해야 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반드시 기입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13360" y="7286760"/>
            <a:ext cx="46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명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명은 한글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5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영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0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로 구성되며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와 문자를  혼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해서 사용가능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반드시 기입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52800" y="7824960"/>
            <a:ext cx="34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기타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다음은 해당 가설재의 규격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단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단가를  입력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56160" y="1441440"/>
            <a:ext cx="175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 1. 4 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가설재 대분류 등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10840" y="1119240"/>
            <a:ext cx="95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2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현장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6040" y="1743120"/>
            <a:ext cx="97272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현장등록 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00840" y="6781680"/>
            <a:ext cx="42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코드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코드는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로 구성되며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와 문자를  혼용해서 사용가능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는 유일해야 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반드시 기입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50360" y="7362720"/>
            <a:ext cx="459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명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명은  한글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영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로 구성되며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와 문자를  혼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해서 사용가능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반드시 기입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96080" y="792468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기타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다음은 해당현장의 소장명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전화번호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팩스번호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공사기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종체크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입력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56386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5334120" cy="35463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582120" y="111924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3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거래처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09520" y="1666800"/>
            <a:ext cx="107856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거래처등록 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72320" y="7210440"/>
            <a:ext cx="451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거래처명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거래처명은  한글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영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로 구성되며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와 문자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혼용해서 사용 가능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반드시 기입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56200" y="6705720"/>
            <a:ext cx="391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거래처코드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거래처코드는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로 구성되며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는 유일해야 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반드시 기입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97160" y="7924680"/>
            <a:ext cx="39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기타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다음은 해당거래처의 대표자명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사업자번호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전화번호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팩스번호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주소를 입력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546480" y="1119240"/>
            <a:ext cx="9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.4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회사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초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61720" y="1666800"/>
            <a:ext cx="97272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회사등록 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11480" y="5486400"/>
            <a:ext cx="433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회사명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회사명은  한글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영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리로 구성되며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숫자와 문자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혼용해서 사용 가능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반드시 기입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메인화면의 회사명 으로 표시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31640" y="6810480"/>
            <a:ext cx="28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이 내용을 출력물이나 기타 자료에 참고자료로 사용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79280" y="6324480"/>
            <a:ext cx="238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기타    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다음은 기타사항들을 입력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33520" y="7315200"/>
            <a:ext cx="5790960" cy="1295280"/>
            <a:chOff x="533520" y="7315200"/>
            <a:chExt cx="5790960" cy="1295280"/>
          </a:xfrm>
        </p:grpSpPr>
        <p:sp>
          <p:nvSpPr>
            <p:cNvPr id="300" name=""/>
            <p:cNvSpPr/>
            <p:nvPr/>
          </p:nvSpPr>
          <p:spPr>
            <a:xfrm>
              <a:off x="533520" y="7315200"/>
              <a:ext cx="5790960" cy="1295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9480" y="74228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굴림"/>
                </a:rPr>
                <a:t>Me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37623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457200" y="232920"/>
            <a:ext cx="6248520" cy="1632240"/>
            <a:chOff x="457200" y="232920"/>
            <a:chExt cx="6248520" cy="1632240"/>
          </a:xfrm>
        </p:grpSpPr>
        <p:grpSp>
          <p:nvGrpSpPr>
            <p:cNvPr id="304" name=""/>
            <p:cNvGrpSpPr/>
            <p:nvPr/>
          </p:nvGrpSpPr>
          <p:grpSpPr>
            <a:xfrm>
              <a:off x="609480" y="232920"/>
              <a:ext cx="1403640" cy="1632240"/>
              <a:chOff x="609480" y="232920"/>
              <a:chExt cx="1403640" cy="1632240"/>
            </a:xfrm>
          </p:grpSpPr>
          <p:sp>
            <p:nvSpPr>
              <p:cNvPr id="305" name=""/>
              <p:cNvSpPr/>
              <p:nvPr/>
            </p:nvSpPr>
            <p:spPr>
              <a:xfrm>
                <a:off x="609480" y="232920"/>
                <a:ext cx="1295640" cy="531360"/>
              </a:xfrm>
              <a:prstGeom prst="horizontalScroll">
                <a:avLst>
                  <a:gd name="adj" fmla="val 12500"/>
                </a:avLst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제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3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58160" y="1125360"/>
                <a:ext cx="1254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3. 1 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굴림"/>
                  </a:rPr>
                  <a:t>소모자재 입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36560" y="1590840"/>
                <a:ext cx="18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57200" y="8380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281320" y="28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입력작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28240" y="1819080"/>
            <a:ext cx="118548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실행내역입력 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2240" y="7000920"/>
            <a:ext cx="71496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작업순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4080" y="7543800"/>
            <a:ext cx="218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콤보박스를 클릭하여 현장을 선택한다</a:t>
            </a:r>
            <a:r>
              <a:rPr b="0" lang="en-US" sz="1200" spc="-1" strike="noStrike">
                <a:solidFill>
                  <a:srgbClr val="000000"/>
                </a:solidFill>
                <a:latin typeface="Univer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 자재별 수량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단가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금액을 입력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89280" y="1430280"/>
            <a:ext cx="140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 1. 1 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실행내역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4648320" cy="4538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 flipH="1">
            <a:off x="5028840" y="1600200"/>
            <a:ext cx="15228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272600"/>
            <a:ext cx="1143000" cy="726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 실행내역입력화면을 호출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518760"/>
            <a:ext cx="3511440" cy="735840"/>
          </a:xfrm>
          <a:prstGeom prst="horizontalScroll">
            <a:avLst>
              <a:gd name="adj" fmla="val 14657"/>
            </a:avLst>
          </a:prstGeom>
          <a:gradFill rotWithShape="0">
            <a:gsLst>
              <a:gs pos="0">
                <a:srgbClr val="f7f9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66"/>
                </a:solidFill>
                <a:latin typeface="굴림"/>
                <a:ea typeface="바탕"/>
              </a:rPr>
              <a:t>목         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371600"/>
            <a:ext cx="6324480" cy="304920"/>
          </a:xfrm>
          <a:prstGeom prst="horizontalScroll">
            <a:avLst>
              <a:gd name="adj" fmla="val 20314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905120"/>
            <a:ext cx="6019920" cy="6933960"/>
          </a:xfrm>
          <a:custGeom>
            <a:avLst/>
            <a:gdLst>
              <a:gd name="textAreaLeft" fmla="*/ 293760 w 6019920"/>
              <a:gd name="textAreaRight" fmla="*/ 5726160 w 6019920"/>
              <a:gd name="textAreaTop" fmla="*/ 293760 h 6933960"/>
              <a:gd name="textAreaBottom" fmla="*/ 6640200 h 6933960"/>
            </a:gdLst>
            <a:ahLst/>
            <a:rect l="textAreaLeft" t="textAreaTop" r="textAreaRight" b="textAreaBottom"/>
            <a:pathLst>
              <a:path w="21600" h="24879">
                <a:moveTo>
                  <a:pt x="3600" y="0"/>
                </a:moveTo>
                <a:arcTo wR="3600" hR="3600" stAng="16200000" swAng="-5400000"/>
                <a:lnTo>
                  <a:pt x="0" y="21279"/>
                </a:lnTo>
                <a:arcTo wR="3600" hR="3600" stAng="10800000" swAng="-5400000"/>
                <a:lnTo>
                  <a:pt x="18000" y="24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2438280"/>
            <a:ext cx="434340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자재</a:t>
            </a:r>
            <a:r>
              <a:rPr b="1" lang="ko-KR" sz="1600" spc="-1" strike="noStrike">
                <a:solidFill>
                  <a:srgbClr val="000000"/>
                </a:solidFill>
                <a:latin typeface="Univers"/>
                <a:ea typeface="굴림체"/>
              </a:rPr>
              <a:t> 관리 시스템 소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시스템 개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시스템 특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무 흐름도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키보드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아이콘 사용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.5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기본화면 설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.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기초작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재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1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재 대분류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1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소모 자재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1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가설재 대분류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1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가설재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현장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거래처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회사 등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205640" y="1143000"/>
            <a:ext cx="27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코드를 모를 경우 </a:t>
            </a:r>
            <a:r>
              <a:rPr b="0" lang="en-US" sz="1200" spc="-1" strike="noStrike">
                <a:solidFill>
                  <a:srgbClr val="000000"/>
                </a:solidFill>
                <a:latin typeface="Univers"/>
              </a:rPr>
              <a:t>F5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키를 눌러 자재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2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입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9240" y="5638680"/>
            <a:ext cx="326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선택키를 누르면 자재코드와 단가를 실행내역 입력화면에 표시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수량을 입력하면 금액을 자동 계산하여 준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2492280" cy="2743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 flipH="1" flipV="1">
            <a:off x="1280880" y="2333160"/>
            <a:ext cx="928440" cy="71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1825560"/>
            <a:ext cx="1143000" cy="519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대분류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657600" y="2333160"/>
            <a:ext cx="214200" cy="561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29000" y="1825560"/>
            <a:ext cx="1447920" cy="519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를 선택하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선택키를 누른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33520" y="6400800"/>
            <a:ext cx="5790960" cy="2286000"/>
            <a:chOff x="533520" y="6400800"/>
            <a:chExt cx="5790960" cy="2286000"/>
          </a:xfrm>
        </p:grpSpPr>
        <p:sp>
          <p:nvSpPr>
            <p:cNvPr id="327" name=""/>
            <p:cNvSpPr/>
            <p:nvPr/>
          </p:nvSpPr>
          <p:spPr>
            <a:xfrm>
              <a:off x="533520" y="6400800"/>
              <a:ext cx="5790960" cy="2286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5720" y="641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굴림"/>
                </a:rPr>
                <a:t>Me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입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26640" y="1119240"/>
            <a:ext cx="12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 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모자재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03200" y="1819080"/>
            <a:ext cx="103356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자재청구서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9040" y="7086600"/>
            <a:ext cx="616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청구일자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기본일자는 시스템 일자이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새로운 입력일 경우 버튼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위의 선택사항을 충실히 입력하면 청구번호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일자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코드는 자동으로 입력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실행내역에서 자료를 가지고 올 경우 실행내역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를 입력하려면 자재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&lt;-&gt;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 변환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7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의 입력 방법도 자재와 동일 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5191200" cy="39448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148760" y="1447920"/>
            <a:ext cx="151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 1. 2 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자재청구서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5243040" y="2485800"/>
            <a:ext cx="623880" cy="10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00600" y="1988640"/>
            <a:ext cx="1447920" cy="519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버튼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1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새로운 번호를 생성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입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716200" cy="29908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114800" y="4724280"/>
            <a:ext cx="2104920" cy="32385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V="1">
            <a:off x="2819520" y="2485800"/>
            <a:ext cx="2423880" cy="485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1897920"/>
            <a:ext cx="1066680" cy="726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자재코드를 모를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이 화면을 사용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81080" y="6276960"/>
            <a:ext cx="2743200" cy="88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5796360"/>
            <a:ext cx="1066680" cy="933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실행내역을 직접 가지고 올경우는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이화면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사용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5486400" cy="39830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26640" y="1119240"/>
            <a:ext cx="12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 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모자재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01760" y="1819080"/>
            <a:ext cx="103356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자재발주서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8760" y="1447920"/>
            <a:ext cx="151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 1. 3 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자재발주서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5243400" y="2485800"/>
            <a:ext cx="852480" cy="10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1988640"/>
            <a:ext cx="1447920" cy="519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버튼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1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새로운 번호를 생성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9040" y="7086600"/>
            <a:ext cx="616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발주일자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기본일자는 시스템 일자이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새로운 입력일 경우 버튼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위의 선택사항을 충실히 입력하면 발주번호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일자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코드는 자동으로 입력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청구내역에서 자료를 가지고 올 경우 청구내역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를 입력하려면 자재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&lt;-&gt;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 변환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7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의 입력 방법도 자재와 동일 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입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2508480" cy="2762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276720" y="4952880"/>
            <a:ext cx="3171600" cy="28623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flipV="1">
            <a:off x="1981080" y="7162560"/>
            <a:ext cx="2743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7409520"/>
            <a:ext cx="1066680" cy="933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청구내역을 직접 가지고 올경우는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이화면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사용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819520" y="2485800"/>
            <a:ext cx="2423880" cy="485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800600" y="1897920"/>
            <a:ext cx="1066680" cy="726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자재코드를 모를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이 화면을 사용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5334120"/>
            <a:ext cx="2514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청구일자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청구번호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원하는 청구내역을 선택하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선택키를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입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5486400" cy="39625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26640" y="1119240"/>
            <a:ext cx="12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 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모자재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01760" y="1819080"/>
            <a:ext cx="103356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자재입고서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48760" y="1447920"/>
            <a:ext cx="151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 1. 4 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자재입고서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243040" y="2485800"/>
            <a:ext cx="623880" cy="10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00600" y="1988640"/>
            <a:ext cx="1447920" cy="519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버튼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1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새로운 번호를 생성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입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9040" y="7086600"/>
            <a:ext cx="616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입고일자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기본일자는 시스템 일자이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새로운 입력일 경우 버튼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위의 선택사항을 충실히 입력하면 입고번호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일자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코드는 자동으로 입력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청구내역에서 자료를 가지고 올 경우 청구번호를 선택하고 청구내역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발주내역에서 자료를 가지고 올 경우 발주번호를 선택하고 청구내역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7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를 입력하려면 자재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&lt;-&gt;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 변환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8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의 입력 방법도 자재와 동일 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2006640" cy="22096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3276360" cy="2449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 flipV="1">
            <a:off x="1905120" y="1903320"/>
            <a:ext cx="2423880" cy="48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1315440"/>
            <a:ext cx="1066680" cy="726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자재코드를 모를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이 화면을 사용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4038480"/>
            <a:ext cx="26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Univer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앞화면에서 청구번호를 선택하면일자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.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청구번호가 자동으로 입력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Univer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원하는 청구내역을 선택하고  선택키를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입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3352680" y="6324480"/>
            <a:ext cx="3276720" cy="24051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80880" y="6858000"/>
            <a:ext cx="266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Univer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앞화면에서 발주번호를 선택하면일자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.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발주번호가 자동으로 입력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Univer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원하는 발주내역을 선택하고  선택키를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26640" y="1119240"/>
            <a:ext cx="12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 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모자재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62520" y="1819080"/>
            <a:ext cx="113940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전용자재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입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13120" y="1447920"/>
            <a:ext cx="140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 1. 5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전용자재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00600" y="1988640"/>
            <a:ext cx="1447920" cy="519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버튼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1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새로운 번호를 생성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입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9040" y="7086600"/>
            <a:ext cx="616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전용일자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기본일자는 시스템 일자이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새로운 입력일 경우 버튼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위의 선택사항을 충실히 입력하면 전용번호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일자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코드는 자동으로 입력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재고내역에서 자료를 가지고 올 경우 재고내역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정확한 재고내역 파악을 위해서는 일마감 작업과 월마감 작업을 충실히 해주어야 한다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7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를 입력하려면 자재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&lt;-&gt;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 변환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8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의 입력 방법도 자재와 동일 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257800" cy="37051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 flipH="1" flipV="1">
            <a:off x="5243400" y="2485800"/>
            <a:ext cx="547920" cy="866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2006640" cy="2209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 flipV="1">
            <a:off x="1905120" y="1903320"/>
            <a:ext cx="2423880" cy="48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1315440"/>
            <a:ext cx="1066680" cy="726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자재코드를 모를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이 화면을 사용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7391520"/>
            <a:ext cx="579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앞화면에서 선택한현장에서 전용할 현장을 선잭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원하는 재고내역을 선택하고  선택키를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입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3809880" cy="3540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124080" y="4141800"/>
            <a:ext cx="1981440" cy="12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3989160"/>
            <a:ext cx="1447560" cy="519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자재를 전용할 현장을 선택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26640" y="1119240"/>
            <a:ext cx="12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 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모자재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43000" y="1844640"/>
            <a:ext cx="213372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출고서 입력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56320" y="1447920"/>
            <a:ext cx="155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 1. 6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출고서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0600" y="1988640"/>
            <a:ext cx="1447920" cy="519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버튼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1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새로운 번호를 생성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입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9040" y="7086600"/>
            <a:ext cx="616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출고일자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기본일자는 시스템 일자이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새로운 입력일 경우 버튼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위의 선택사항을 충실히 입력하면 출고번호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일자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코드는 자동으로 입력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재고내역에서 자료를 가지고 올 경우 재고내역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정확한 재고내역 파악을 위해서는 일마감 작업과 월마감 작업을 충실히 해주어야 한다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7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를 입력하려면 자재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&lt;-&gt;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 변환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8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의 입력 방법도 자재와 동일 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5410080" cy="38289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 flipH="1" flipV="1">
            <a:off x="5243040" y="2486160"/>
            <a:ext cx="776520" cy="109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219320"/>
            <a:ext cx="6019920" cy="6933960"/>
          </a:xfrm>
          <a:custGeom>
            <a:avLst/>
            <a:gdLst>
              <a:gd name="textAreaLeft" fmla="*/ 293760 w 6019920"/>
              <a:gd name="textAreaRight" fmla="*/ 5726160 w 6019920"/>
              <a:gd name="textAreaTop" fmla="*/ 293760 h 6933960"/>
              <a:gd name="textAreaBottom" fmla="*/ 6640200 h 6933960"/>
            </a:gdLst>
            <a:ahLst/>
            <a:rect l="textAreaLeft" t="textAreaTop" r="textAreaRight" b="textAreaBottom"/>
            <a:pathLst>
              <a:path w="21600" h="24879">
                <a:moveTo>
                  <a:pt x="3600" y="0"/>
                </a:moveTo>
                <a:arcTo wR="3600" hR="3600" stAng="16200000" swAng="-5400000"/>
                <a:lnTo>
                  <a:pt x="0" y="21279"/>
                </a:lnTo>
                <a:arcTo wR="3600" hR="3600" stAng="10800000" swAng="-5400000"/>
                <a:lnTo>
                  <a:pt x="18000" y="24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600200"/>
            <a:ext cx="4267440" cy="57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3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입력작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소모 자재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1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실행 내역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1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재 청구서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1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재 발주서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1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재 입고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1.5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재 전용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1.6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재 출고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1.7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일 마 감  작 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가설재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2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실행 내역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2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가설재 청구서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2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가설재 발주서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2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가설재 입고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2.5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가설재 전용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2.6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가설재 손망실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2.7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일 마 감  작 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거래처별 지불내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월 마 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86480" y="60948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비관리시스템 목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2006640" cy="22096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 flipV="1">
            <a:off x="1905120" y="1903320"/>
            <a:ext cx="2423880" cy="48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86200" y="1315440"/>
            <a:ext cx="1066680" cy="726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자재코드를 모를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이 화면을 사용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7391520"/>
            <a:ext cx="579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앞화면에서 선택한 현장자료만 조회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원하는 재고내역을 선택하고  선택키를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입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05520" y="3918600"/>
            <a:ext cx="1143000" cy="726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앞화면에서 선택한 현장에 관한 자료만 조회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533520" y="3733920"/>
            <a:ext cx="3429000" cy="3186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523880" y="4191120"/>
            <a:ext cx="3581640" cy="75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43000" y="1971720"/>
            <a:ext cx="213372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일마감 작업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81480" y="3197160"/>
            <a:ext cx="1143000" cy="519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자재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가설재 변환버튼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입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9040" y="7086600"/>
            <a:ext cx="6168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마감일자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마감현장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확인 버튼을 눌러 작업을 실행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마감 작업을하려면 자재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&lt;-&gt;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 변환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마감 작업방법도 자재와 동일 하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2714760" cy="37908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4267080" y="3200400"/>
            <a:ext cx="9907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36160" y="1066680"/>
            <a:ext cx="12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 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모자재 입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342080" y="1447920"/>
            <a:ext cx="13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 1. 7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일마감 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1743120"/>
            <a:ext cx="259092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거래처별 지불내역 입력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78480" y="114300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 3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거래처별 지불내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입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9040" y="7086600"/>
            <a:ext cx="616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지불내역을 입력하고자 하는 일자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기본일자는 시스템 일자이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거래처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556272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4724280" cy="37526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048120" y="4343400"/>
            <a:ext cx="366480" cy="1447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95480" y="5811120"/>
            <a:ext cx="1143000" cy="726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거래처코드를 모를경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이 화면을 사용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739152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원하는 거래처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선택키를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입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1819080"/>
            <a:ext cx="213372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월마감 작업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71920" y="121932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3. 4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월마감 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86332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3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입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9040" y="6019920"/>
            <a:ext cx="373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마감월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마감 버튼을 눌러 작업을 실행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2714760" cy="218124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533520" y="6934320"/>
            <a:ext cx="5790960" cy="1828800"/>
            <a:chOff x="533520" y="6934320"/>
            <a:chExt cx="5790960" cy="1828800"/>
          </a:xfrm>
        </p:grpSpPr>
        <p:sp>
          <p:nvSpPr>
            <p:cNvPr id="446" name=""/>
            <p:cNvSpPr/>
            <p:nvPr/>
          </p:nvSpPr>
          <p:spPr>
            <a:xfrm>
              <a:off x="533520" y="6934320"/>
              <a:ext cx="579096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9480" y="708660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굴림"/>
                </a:rPr>
                <a:t>Me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438120" y="246960"/>
            <a:ext cx="6248520" cy="1632240"/>
            <a:chOff x="438120" y="246960"/>
            <a:chExt cx="6248520" cy="1632240"/>
          </a:xfrm>
        </p:grpSpPr>
        <p:grpSp>
          <p:nvGrpSpPr>
            <p:cNvPr id="449" name=""/>
            <p:cNvGrpSpPr/>
            <p:nvPr/>
          </p:nvGrpSpPr>
          <p:grpSpPr>
            <a:xfrm>
              <a:off x="517320" y="246960"/>
              <a:ext cx="1368720" cy="1632240"/>
              <a:chOff x="517320" y="246960"/>
              <a:chExt cx="1368720" cy="1632240"/>
            </a:xfrm>
          </p:grpSpPr>
          <p:sp>
            <p:nvSpPr>
              <p:cNvPr id="450" name=""/>
              <p:cNvSpPr/>
              <p:nvPr/>
            </p:nvSpPr>
            <p:spPr>
              <a:xfrm>
                <a:off x="590400" y="246960"/>
                <a:ext cx="1295640" cy="531360"/>
              </a:xfrm>
              <a:prstGeom prst="horizontalScroll">
                <a:avLst>
                  <a:gd name="adj" fmla="val 12500"/>
                </a:avLst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제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4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17320" y="11394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17480" y="1604880"/>
                <a:ext cx="18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438120" y="85212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2156040" y="318960"/>
            <a:ext cx="12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조회</a:t>
            </a: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76400" y="1590480"/>
            <a:ext cx="170028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청구현황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6172200"/>
            <a:ext cx="61693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에는 일자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로 나누어 진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일자별일 경우 조회일자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별일 경우 조회일자와 현장을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일 경우 조회일자와 자재인지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인지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 상황에 맞는 검색 화면이 뜬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762120" y="2128680"/>
            <a:ext cx="5181480" cy="32814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819000" y="10666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청구현황조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520560" y="1519560"/>
            <a:ext cx="82404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현장조회 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76520" y="1295280"/>
          <a:ext cx="480060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4800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566360" y="1447920"/>
            <a:ext cx="361476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219320" y="4343400"/>
          <a:ext cx="48006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343400"/>
                    <a:ext cx="4800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444240" y="5023080"/>
            <a:ext cx="824040" cy="796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재조회 화면이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가설재 조회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761760" y="4495680"/>
            <a:ext cx="388620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5"/>
          <a:stretch/>
        </p:blipFill>
        <p:spPr>
          <a:xfrm>
            <a:off x="2286000" y="1828800"/>
            <a:ext cx="2622600" cy="23623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6"/>
          <a:stretch/>
        </p:blipFill>
        <p:spPr>
          <a:xfrm>
            <a:off x="1828800" y="5029200"/>
            <a:ext cx="2247840" cy="24764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7"/>
          <a:stretch/>
        </p:blipFill>
        <p:spPr>
          <a:xfrm>
            <a:off x="4267080" y="5029200"/>
            <a:ext cx="2175120" cy="24764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 flipH="1" flipV="1">
            <a:off x="761760" y="5333760"/>
            <a:ext cx="243828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685800" y="5486040"/>
            <a:ext cx="4648320" cy="1676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914400" y="2133360"/>
            <a:ext cx="274320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685800" y="7772400"/>
          <a:ext cx="343080" cy="32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7772400"/>
                    <a:ext cx="343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685800" y="8305920"/>
          <a:ext cx="333360" cy="314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5800" y="8305920"/>
                    <a:ext cx="333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1759320" y="777240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될 내용을 화면으로 미리 볼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26120" y="830592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회된 내용을 출력할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10666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2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발주현황조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5257800" cy="35798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076400" y="1590480"/>
            <a:ext cx="170028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발주현황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880" y="6172200"/>
            <a:ext cx="6248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에는 일자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거래처별로 나누어 진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일자별일 경우 조회일자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별일 경우 조회일자와 현장을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일 경우 조회일자와 자재인지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인지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거래처별일 경우 조회일자와 거래처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 상황에 맞는 검색 화면이 뜬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7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2971800" y="3352680"/>
          <a:ext cx="3479760" cy="4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352680"/>
                    <a:ext cx="34797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3111120" y="2433960"/>
            <a:ext cx="82404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현장조회 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11120" y="4032720"/>
            <a:ext cx="824040" cy="796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재조회 화면이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가설재 조회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514320" y="3429000"/>
            <a:ext cx="1514520" cy="604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533520" y="1828800"/>
            <a:ext cx="2209680" cy="19908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4"/>
          <a:stretch/>
        </p:blipFill>
        <p:spPr>
          <a:xfrm>
            <a:off x="533520" y="4038480"/>
            <a:ext cx="2006640" cy="22100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5"/>
          <a:stretch/>
        </p:blipFill>
        <p:spPr>
          <a:xfrm>
            <a:off x="4502160" y="4038480"/>
            <a:ext cx="1940040" cy="22100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 flipH="1" flipV="1">
            <a:off x="3428640" y="4495320"/>
            <a:ext cx="243828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600200" y="4343400"/>
            <a:ext cx="144792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600200" y="3047760"/>
            <a:ext cx="18288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685800" y="7772400"/>
          <a:ext cx="343080" cy="324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7772400"/>
                    <a:ext cx="343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5800" y="8305920"/>
          <a:ext cx="333360" cy="314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8305920"/>
                    <a:ext cx="333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1759320" y="777240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될 내용을 화면으로 미리 볼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26120" y="830592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회된 내용을 출력할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57200" y="1143000"/>
          <a:ext cx="3581280" cy="544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" y="1143000"/>
                    <a:ext cx="358128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2743200" y="1295280"/>
            <a:ext cx="76212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2"/>
          <a:stretch/>
        </p:blipFill>
        <p:spPr>
          <a:xfrm>
            <a:off x="4495680" y="6553080"/>
            <a:ext cx="2033640" cy="23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0" name=""/>
          <p:cNvGraphicFramePr/>
          <p:nvPr/>
        </p:nvGraphicFramePr>
        <p:xfrm>
          <a:off x="228600" y="6781680"/>
          <a:ext cx="4038480" cy="617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6781680"/>
                    <a:ext cx="403848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3035160" y="5558040"/>
            <a:ext cx="82404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거래처 조회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819520" y="61718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581280" y="6171840"/>
            <a:ext cx="2362320" cy="1981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19000" y="10666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3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입고현황조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076400" y="1590480"/>
            <a:ext cx="170028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입고현황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0880" y="6172200"/>
            <a:ext cx="6248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에는 일자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거래처별로 나누어 진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일자별일 경우 조회일자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별일 경우 조회일자와 현장을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일 경우 조회일자와 자재인지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인지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거래처별일 경우 조회일자와 거래처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 상황에 맞는 검색 화면이 뜬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7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563868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219320"/>
            <a:ext cx="6019920" cy="6933960"/>
          </a:xfrm>
          <a:custGeom>
            <a:avLst/>
            <a:gdLst>
              <a:gd name="textAreaLeft" fmla="*/ 293760 w 6019920"/>
              <a:gd name="textAreaRight" fmla="*/ 5726160 w 6019920"/>
              <a:gd name="textAreaTop" fmla="*/ 293760 h 6933960"/>
              <a:gd name="textAreaBottom" fmla="*/ 6640200 h 6933960"/>
            </a:gdLst>
            <a:ahLst/>
            <a:rect l="textAreaLeft" t="textAreaTop" r="textAreaRight" b="textAreaBottom"/>
            <a:pathLst>
              <a:path w="21600" h="24879">
                <a:moveTo>
                  <a:pt x="3600" y="0"/>
                </a:moveTo>
                <a:arcTo wR="3600" hR="3600" stAng="16200000" swAng="-5400000"/>
                <a:lnTo>
                  <a:pt x="0" y="21279"/>
                </a:lnTo>
                <a:arcTo wR="3600" hR="3600" stAng="10800000" swAng="-5400000"/>
                <a:lnTo>
                  <a:pt x="18000" y="24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752480"/>
            <a:ext cx="4267440" cy="57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4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조회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력 작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재 청구 현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재 발주 현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재 입고 현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재 출고 현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5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재고 현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6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재 전용 현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7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실행 대비 발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8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실행 대비 입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9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청구 대비 입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10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발주 대비 입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1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재 집계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12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재 발주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1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재 출고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1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재 수불대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15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가설재 손망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16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거래처 잔액 현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17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체별 미입고 현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.18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지급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입금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품의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87920" y="60948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비관리시스템 목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"/>
          <p:cNvGraphicFramePr/>
          <p:nvPr/>
        </p:nvGraphicFramePr>
        <p:xfrm>
          <a:off x="2971800" y="3352680"/>
          <a:ext cx="3479760" cy="4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352680"/>
                    <a:ext cx="34797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"/>
          <p:cNvSpPr/>
          <p:nvPr/>
        </p:nvSpPr>
        <p:spPr>
          <a:xfrm>
            <a:off x="3111120" y="2433960"/>
            <a:ext cx="82404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현장조회 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11120" y="4032720"/>
            <a:ext cx="824040" cy="796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재조회 화면이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가설재 조회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514320" y="3429000"/>
            <a:ext cx="1514520" cy="604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533520" y="1828800"/>
            <a:ext cx="2209680" cy="19908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533520" y="4038480"/>
            <a:ext cx="2006640" cy="221004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5"/>
          <a:stretch/>
        </p:blipFill>
        <p:spPr>
          <a:xfrm>
            <a:off x="4502160" y="4038480"/>
            <a:ext cx="1940040" cy="221004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 flipH="1" flipV="1">
            <a:off x="3428640" y="4495320"/>
            <a:ext cx="243828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600200" y="4343400"/>
            <a:ext cx="144792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600200" y="3047760"/>
            <a:ext cx="18288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7772400"/>
          <a:ext cx="343080" cy="324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7772400"/>
                    <a:ext cx="343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685800" y="8305920"/>
          <a:ext cx="333360" cy="314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8305920"/>
                    <a:ext cx="333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1759320" y="777240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될 내용을 화면으로 미리 볼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26120" y="830592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회된 내용을 출력할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57200" y="1143000"/>
          <a:ext cx="3581280" cy="544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" y="1143000"/>
                    <a:ext cx="358128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"/>
          <p:cNvSpPr/>
          <p:nvPr/>
        </p:nvSpPr>
        <p:spPr>
          <a:xfrm>
            <a:off x="2743200" y="1295280"/>
            <a:ext cx="76212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2"/>
          <a:stretch/>
        </p:blipFill>
        <p:spPr>
          <a:xfrm>
            <a:off x="4495680" y="6553080"/>
            <a:ext cx="2033640" cy="23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"/>
          <p:cNvGraphicFramePr/>
          <p:nvPr/>
        </p:nvGraphicFramePr>
        <p:xfrm>
          <a:off x="228600" y="6781680"/>
          <a:ext cx="4038480" cy="617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6781680"/>
                    <a:ext cx="403848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"/>
          <p:cNvSpPr/>
          <p:nvPr/>
        </p:nvSpPr>
        <p:spPr>
          <a:xfrm>
            <a:off x="3035160" y="5558040"/>
            <a:ext cx="82404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거래처 조회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2819520" y="61718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3581280" y="6171840"/>
            <a:ext cx="2362320" cy="1981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19000" y="10666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4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출고현황조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76400" y="1590480"/>
            <a:ext cx="170028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출고현황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880" y="6172200"/>
            <a:ext cx="61693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에는 일자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로 나누어 진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일자별일 경우 조회일자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별일 경우 조회일자와 현장을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일 경우 조회일자와 자재인지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인지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 상황에 맞는 검색 화면이 뜬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5548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520560" y="1519560"/>
            <a:ext cx="82404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현장조회 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676520" y="1295280"/>
          <a:ext cx="480060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4800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1566360" y="1447920"/>
            <a:ext cx="315756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219320" y="4343400"/>
          <a:ext cx="48006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343400"/>
                    <a:ext cx="4800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"/>
          <p:cNvSpPr/>
          <p:nvPr/>
        </p:nvSpPr>
        <p:spPr>
          <a:xfrm>
            <a:off x="444240" y="5023080"/>
            <a:ext cx="824040" cy="796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재조회 화면이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가설재 조회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61760" y="4495680"/>
            <a:ext cx="335268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5"/>
          <a:stretch/>
        </p:blipFill>
        <p:spPr>
          <a:xfrm>
            <a:off x="2286000" y="1828800"/>
            <a:ext cx="2622600" cy="236232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6"/>
          <a:stretch/>
        </p:blipFill>
        <p:spPr>
          <a:xfrm>
            <a:off x="1828800" y="5029200"/>
            <a:ext cx="2247840" cy="24764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7"/>
          <a:stretch/>
        </p:blipFill>
        <p:spPr>
          <a:xfrm>
            <a:off x="4267080" y="5029200"/>
            <a:ext cx="2175120" cy="24764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 flipH="1" flipV="1">
            <a:off x="761760" y="5333760"/>
            <a:ext cx="243828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685800" y="5486040"/>
            <a:ext cx="4648320" cy="1676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914400" y="2133360"/>
            <a:ext cx="274320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685800" y="7772400"/>
          <a:ext cx="343080" cy="32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7772400"/>
                    <a:ext cx="343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685800" y="8305920"/>
          <a:ext cx="333360" cy="314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5800" y="8305920"/>
                    <a:ext cx="333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1759320" y="777240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될 내용을 화면으로 미리 볼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26120" y="830592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회된 내용을 출력할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19000" y="10666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5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재고현황조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076400" y="1590480"/>
            <a:ext cx="170028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재고현황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0880" y="6172200"/>
            <a:ext cx="6169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에는  현장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로 나누어 진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별일 경우 조회일자와 현장을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일 경우 조회일자와 자재인지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인지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 상황에 맞는 검색 화면이 뜬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58672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520560" y="1519560"/>
            <a:ext cx="82404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현장조회 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4240" y="5023080"/>
            <a:ext cx="824040" cy="796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재조회 화면이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가설재 조회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2622600" cy="236232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1828800" y="5029200"/>
            <a:ext cx="2247840" cy="247644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3"/>
          <a:stretch/>
        </p:blipFill>
        <p:spPr>
          <a:xfrm>
            <a:off x="4267080" y="5029200"/>
            <a:ext cx="2175120" cy="24764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 flipH="1" flipV="1">
            <a:off x="761760" y="5333760"/>
            <a:ext cx="243828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685800" y="5486040"/>
            <a:ext cx="4648320" cy="1676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914400" y="2133360"/>
            <a:ext cx="274320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685800" y="7772400"/>
          <a:ext cx="343080" cy="3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7772400"/>
                    <a:ext cx="343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685800" y="8305920"/>
          <a:ext cx="333360" cy="314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8305920"/>
                    <a:ext cx="333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"/>
          <p:cNvSpPr/>
          <p:nvPr/>
        </p:nvSpPr>
        <p:spPr>
          <a:xfrm>
            <a:off x="1759320" y="777240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될 내용을 화면으로 미리 볼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626120" y="830592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회된 내용을 출력할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752480" y="1143000"/>
          <a:ext cx="4876920" cy="492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1143000"/>
                    <a:ext cx="4876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 flipH="1">
            <a:off x="1566360" y="1295280"/>
            <a:ext cx="323388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1828800" y="4343400"/>
          <a:ext cx="4648320" cy="53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4343400"/>
                    <a:ext cx="4648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 flipH="1">
            <a:off x="761760" y="4495680"/>
            <a:ext cx="388620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19000" y="10666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6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전용현황조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076400" y="1590480"/>
            <a:ext cx="170028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전용현황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0880" y="6172200"/>
            <a:ext cx="6169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에는  현장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로 나누어 진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별일 경우 조회일자와 현장을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일 경우 조회일자와 자재인지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인지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 상황에 맞는 검색 화면이 뜬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5943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1666800" y="1185840"/>
          <a:ext cx="480060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0" y="1185840"/>
                    <a:ext cx="48006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520560" y="1519560"/>
            <a:ext cx="82404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현장조회 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1566360" y="1371600"/>
            <a:ext cx="323388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44240" y="5023080"/>
            <a:ext cx="824040" cy="796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재조회 화면이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가설재 조회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2286000" y="1828800"/>
            <a:ext cx="2622600" cy="23623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tretch/>
        </p:blipFill>
        <p:spPr>
          <a:xfrm>
            <a:off x="1828800" y="5029200"/>
            <a:ext cx="2247840" cy="24764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4267080" y="5029200"/>
            <a:ext cx="2175120" cy="24764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 flipH="1" flipV="1">
            <a:off x="761760" y="5333760"/>
            <a:ext cx="243828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685800" y="5486040"/>
            <a:ext cx="4648320" cy="1676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914400" y="2133360"/>
            <a:ext cx="274320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685800" y="7772400"/>
          <a:ext cx="343080" cy="324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7772400"/>
                    <a:ext cx="343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685800" y="8305920"/>
          <a:ext cx="333360" cy="314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8305920"/>
                    <a:ext cx="333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1759320" y="777240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될 내용을 화면으로 미리 볼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26120" y="830592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회된 내용을 출력할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1828800" y="4343400"/>
          <a:ext cx="4648320" cy="53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4343400"/>
                    <a:ext cx="4648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 flipH="1">
            <a:off x="761760" y="4495680"/>
            <a:ext cx="388620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90280" y="1066680"/>
            <a:ext cx="163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7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실행대비발주현황조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54520" y="1590480"/>
            <a:ext cx="191268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실행대비발주현황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880" y="6172200"/>
            <a:ext cx="616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일자를 입력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을 입력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5790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495000" y="1596960"/>
            <a:ext cx="748080" cy="451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현장조회 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3352680" cy="297972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 flipH="1" flipV="1">
            <a:off x="838080" y="2028600"/>
            <a:ext cx="274320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685800" y="5029200"/>
          <a:ext cx="343080" cy="3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5029200"/>
                    <a:ext cx="343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685800" y="5562720"/>
          <a:ext cx="33336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5562720"/>
                    <a:ext cx="333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"/>
          <p:cNvSpPr/>
          <p:nvPr/>
        </p:nvSpPr>
        <p:spPr>
          <a:xfrm>
            <a:off x="1759320" y="502920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될 내용을 화면으로 미리 볼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26120" y="556272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회된 내용을 출력할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533520" y="6248520"/>
            <a:ext cx="5790960" cy="2514240"/>
            <a:chOff x="533520" y="6248520"/>
            <a:chExt cx="5790960" cy="2514240"/>
          </a:xfrm>
        </p:grpSpPr>
        <p:sp>
          <p:nvSpPr>
            <p:cNvPr id="651" name=""/>
            <p:cNvSpPr/>
            <p:nvPr/>
          </p:nvSpPr>
          <p:spPr>
            <a:xfrm>
              <a:off x="533520" y="6248520"/>
              <a:ext cx="5790960" cy="25142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9480" y="64576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굴림"/>
                </a:rPr>
                <a:t>Me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90280" y="1066680"/>
            <a:ext cx="163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8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실행대비입고현황조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154520" y="1590480"/>
            <a:ext cx="191268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실행대비입고현황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0880" y="6172200"/>
            <a:ext cx="616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일자를 입력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을 입력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5776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1219320"/>
            <a:ext cx="6019920" cy="6933960"/>
          </a:xfrm>
          <a:custGeom>
            <a:avLst/>
            <a:gdLst>
              <a:gd name="textAreaLeft" fmla="*/ 293760 w 6019920"/>
              <a:gd name="textAreaRight" fmla="*/ 5726160 w 6019920"/>
              <a:gd name="textAreaTop" fmla="*/ 293760 h 6933960"/>
              <a:gd name="textAreaBottom" fmla="*/ 6640200 h 6933960"/>
            </a:gdLst>
            <a:ahLst/>
            <a:rect l="textAreaLeft" t="textAreaTop" r="textAreaRight" b="textAreaBottom"/>
            <a:pathLst>
              <a:path w="21600" h="24879">
                <a:moveTo>
                  <a:pt x="3600" y="0"/>
                </a:moveTo>
                <a:arcTo wR="3600" hR="3600" stAng="16200000" swAng="-5400000"/>
                <a:lnTo>
                  <a:pt x="0" y="21279"/>
                </a:lnTo>
                <a:arcTo wR="3600" hR="3600" stAng="10800000" swAng="-5400000"/>
                <a:lnTo>
                  <a:pt x="18000" y="24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1752480"/>
            <a:ext cx="4267440" cy="19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기타작업 작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5.1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움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5.2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OS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료 변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5.3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료 정리 복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5.4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료 저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5.5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료 삭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495000" y="1596960"/>
            <a:ext cx="748080" cy="451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현장조회 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3352680" cy="297972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 flipH="1" flipV="1">
            <a:off x="838080" y="2028600"/>
            <a:ext cx="274320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685800" y="5029200"/>
          <a:ext cx="343080" cy="3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5029200"/>
                    <a:ext cx="343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5562720"/>
          <a:ext cx="33336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5562720"/>
                    <a:ext cx="333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"/>
          <p:cNvSpPr/>
          <p:nvPr/>
        </p:nvSpPr>
        <p:spPr>
          <a:xfrm>
            <a:off x="1759320" y="502920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될 내용을 화면으로 미리 볼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26120" y="556272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회된 내용을 출력할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533520" y="6172200"/>
            <a:ext cx="5790960" cy="2590560"/>
            <a:chOff x="533520" y="6172200"/>
            <a:chExt cx="5790960" cy="2590560"/>
          </a:xfrm>
        </p:grpSpPr>
        <p:sp>
          <p:nvSpPr>
            <p:cNvPr id="671" name=""/>
            <p:cNvSpPr/>
            <p:nvPr/>
          </p:nvSpPr>
          <p:spPr>
            <a:xfrm>
              <a:off x="533520" y="6172200"/>
              <a:ext cx="5790960" cy="25905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9480" y="63878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굴림"/>
                </a:rPr>
                <a:t>Me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90280" y="1066680"/>
            <a:ext cx="163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9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청구대비입고현황조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4520" y="1590480"/>
            <a:ext cx="191268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청구대비입고현황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5638680" cy="37339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380880" y="6172200"/>
            <a:ext cx="6169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에는  현장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로 나누어 진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별일 경우 조회일자와 현장을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일 경우 조회일자와 자재인지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인지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 상황에 맞는 검색 화면이 뜬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1666800" y="1185840"/>
          <a:ext cx="480060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0" y="1185840"/>
                    <a:ext cx="48006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520560" y="1519560"/>
            <a:ext cx="82404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현장조회 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1566360" y="1371600"/>
            <a:ext cx="323388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240" y="5023080"/>
            <a:ext cx="824040" cy="796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재조회 화면이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가설재 조회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3"/>
          <a:stretch/>
        </p:blipFill>
        <p:spPr>
          <a:xfrm>
            <a:off x="2286000" y="1828800"/>
            <a:ext cx="2622600" cy="236232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4"/>
          <a:stretch/>
        </p:blipFill>
        <p:spPr>
          <a:xfrm>
            <a:off x="1828800" y="5029200"/>
            <a:ext cx="2247840" cy="247644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5"/>
          <a:stretch/>
        </p:blipFill>
        <p:spPr>
          <a:xfrm>
            <a:off x="4267080" y="5029200"/>
            <a:ext cx="2175120" cy="247644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 flipH="1" flipV="1">
            <a:off x="761760" y="5333760"/>
            <a:ext cx="243828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685800" y="5486040"/>
            <a:ext cx="4648320" cy="1676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>
            <a:off x="914400" y="2133360"/>
            <a:ext cx="274320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685800" y="7772400"/>
          <a:ext cx="343080" cy="324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7772400"/>
                    <a:ext cx="343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685800" y="8305920"/>
          <a:ext cx="333360" cy="314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8305920"/>
                    <a:ext cx="333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"/>
          <p:cNvSpPr/>
          <p:nvPr/>
        </p:nvSpPr>
        <p:spPr>
          <a:xfrm>
            <a:off x="1759320" y="777240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될 내용을 화면으로 미리 볼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26120" y="830592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회된 내용을 출력할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828800" y="4343400"/>
          <a:ext cx="4648320" cy="53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4343400"/>
                    <a:ext cx="4648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 flipH="1">
            <a:off x="761760" y="4495680"/>
            <a:ext cx="388620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90640" y="1066680"/>
            <a:ext cx="17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10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발주대비입고현황조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154520" y="1590480"/>
            <a:ext cx="191268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발주대비입고현황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0880" y="6172200"/>
            <a:ext cx="6169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에는  거래처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로 나누어 진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거래처별일 경우 조회일자와 거래처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일 경우 조회일자와 자재인지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인지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 상황에 맞는 검색 화면이 뜬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715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20560" y="1519560"/>
            <a:ext cx="82404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현장조회 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4240" y="5023080"/>
            <a:ext cx="824040" cy="796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재조회 화면이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가설재 조회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2622600" cy="236232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1828800" y="5029200"/>
            <a:ext cx="2247840" cy="24764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3"/>
          <a:stretch/>
        </p:blipFill>
        <p:spPr>
          <a:xfrm>
            <a:off x="4267080" y="5029200"/>
            <a:ext cx="2175120" cy="247644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 flipH="1" flipV="1">
            <a:off x="761760" y="5333760"/>
            <a:ext cx="243828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685800" y="5486040"/>
            <a:ext cx="4648320" cy="1676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914400" y="2133360"/>
            <a:ext cx="274320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685800" y="7772400"/>
          <a:ext cx="343080" cy="3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7772400"/>
                    <a:ext cx="343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685800" y="8305920"/>
          <a:ext cx="333360" cy="314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8305920"/>
                    <a:ext cx="333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"/>
          <p:cNvSpPr/>
          <p:nvPr/>
        </p:nvSpPr>
        <p:spPr>
          <a:xfrm>
            <a:off x="1759320" y="777240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될 내용을 화면으로 미리 볼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626120" y="830592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회된 내용을 출력할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752480" y="1066680"/>
          <a:ext cx="4876920" cy="62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1066680"/>
                    <a:ext cx="48769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"/>
          <p:cNvSpPr/>
          <p:nvPr/>
        </p:nvSpPr>
        <p:spPr>
          <a:xfrm flipH="1">
            <a:off x="1566360" y="1219320"/>
            <a:ext cx="407196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1828800" y="4362480"/>
          <a:ext cx="4572000" cy="53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4362480"/>
                    <a:ext cx="4572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 flipH="1">
            <a:off x="761760" y="4495680"/>
            <a:ext cx="472428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90640" y="1066680"/>
            <a:ext cx="17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1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발주대비입고현황조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54520" y="1590480"/>
            <a:ext cx="191268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발주대비입고현황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0880" y="6172200"/>
            <a:ext cx="6169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에는  거래처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로 나누어 진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거래처별일 경우 조회일자와 거래처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일 경우 조회일자와 자재인지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인지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 상황에 맞는 검색 화면이 뜬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715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520560" y="1519560"/>
            <a:ext cx="82404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현장조회 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44240" y="5023080"/>
            <a:ext cx="824040" cy="796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재조회 화면이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가설재 조회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2622600" cy="236232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1828800" y="5029200"/>
            <a:ext cx="2247840" cy="247644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267080" y="5029200"/>
            <a:ext cx="2175120" cy="24764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 flipH="1" flipV="1">
            <a:off x="761760" y="5333760"/>
            <a:ext cx="243828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 flipV="1">
            <a:off x="685800" y="5486040"/>
            <a:ext cx="4648320" cy="1676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 flipV="1">
            <a:off x="914400" y="2133360"/>
            <a:ext cx="274320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685800" y="7772400"/>
          <a:ext cx="343080" cy="3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7772400"/>
                    <a:ext cx="343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"/>
          <p:cNvGraphicFramePr/>
          <p:nvPr/>
        </p:nvGraphicFramePr>
        <p:xfrm>
          <a:off x="685800" y="8305920"/>
          <a:ext cx="333360" cy="314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8305920"/>
                    <a:ext cx="333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759320" y="777240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될 내용을 화면으로 미리 볼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626120" y="830592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회된 내용을 출력할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1752480" y="1066680"/>
          <a:ext cx="4876920" cy="62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1066680"/>
                    <a:ext cx="48769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 flipH="1">
            <a:off x="1566360" y="1219320"/>
            <a:ext cx="407196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4" name=""/>
          <p:cNvGraphicFramePr/>
          <p:nvPr/>
        </p:nvGraphicFramePr>
        <p:xfrm>
          <a:off x="1828800" y="4362480"/>
          <a:ext cx="4572000" cy="53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4362480"/>
                    <a:ext cx="4572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 flipH="1">
            <a:off x="761760" y="4495680"/>
            <a:ext cx="472428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55000" y="1066680"/>
            <a:ext cx="163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12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집계표현황조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023120" y="1590480"/>
            <a:ext cx="180684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집계표현황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80880" y="6172200"/>
            <a:ext cx="6248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에는 일자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거래처별로 나누어 진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별일 경우 조회일자와 현장을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일 경우 조회일자와 자재인지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인지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거래처별일 경우 조회일자와 거래처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총현장일 경우 조회년도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 상황에 맞는 검색 화면이 뜬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7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58528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3111120" y="2433960"/>
            <a:ext cx="82404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현장조회 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11120" y="4032720"/>
            <a:ext cx="824040" cy="796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재조회 화면이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가설재 조회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209680" cy="199080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2006640" cy="221004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4502160" y="4038480"/>
            <a:ext cx="1940040" cy="221004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 flipH="1" flipV="1">
            <a:off x="3428640" y="4495320"/>
            <a:ext cx="243828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1600200" y="4343400"/>
            <a:ext cx="144792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600200" y="3047760"/>
            <a:ext cx="18288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685800" y="7772400"/>
          <a:ext cx="343080" cy="32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7772400"/>
                    <a:ext cx="343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5" name=""/>
          <p:cNvGraphicFramePr/>
          <p:nvPr/>
        </p:nvGraphicFramePr>
        <p:xfrm>
          <a:off x="685800" y="8305920"/>
          <a:ext cx="333360" cy="314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8305920"/>
                    <a:ext cx="333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"/>
          <p:cNvSpPr/>
          <p:nvPr/>
        </p:nvSpPr>
        <p:spPr>
          <a:xfrm>
            <a:off x="1759320" y="777240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될 내용을 화면으로 미리 볼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26120" y="830592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회된 내용을 출력할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8"/>
          <a:stretch/>
        </p:blipFill>
        <p:spPr>
          <a:xfrm>
            <a:off x="4495680" y="6553080"/>
            <a:ext cx="2033640" cy="232416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3035160" y="5558040"/>
            <a:ext cx="82404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거래처 조회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3581280" y="6171840"/>
            <a:ext cx="2362320" cy="1981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533520" y="1143000"/>
          <a:ext cx="3581280" cy="50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1143000"/>
                    <a:ext cx="35812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4" name=""/>
          <p:cNvSpPr/>
          <p:nvPr/>
        </p:nvSpPr>
        <p:spPr>
          <a:xfrm>
            <a:off x="3276720" y="1295280"/>
            <a:ext cx="22860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2971800" y="3200400"/>
          <a:ext cx="343836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1800" y="3200400"/>
                    <a:ext cx="3438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"/>
          <p:cNvSpPr/>
          <p:nvPr/>
        </p:nvSpPr>
        <p:spPr>
          <a:xfrm flipH="1">
            <a:off x="3514680" y="3352680"/>
            <a:ext cx="2200320" cy="681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380880" y="6781680"/>
          <a:ext cx="3657600" cy="525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6781680"/>
                    <a:ext cx="36576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 flipV="1">
            <a:off x="3276720" y="61718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12800" y="106668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13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발주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128960" y="1590480"/>
            <a:ext cx="159336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발주서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0880" y="6172200"/>
            <a:ext cx="6248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일자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거래처별일 경우 조회일자와 거래처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 상황에 맞는 검색 화면이 뜬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1600200"/>
            <a:ext cx="586764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.1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시스템</a:t>
            </a:r>
            <a:r>
              <a:rPr b="1" lang="ko-KR" sz="1600" spc="-1" strike="noStrike">
                <a:solidFill>
                  <a:srgbClr val="000000"/>
                </a:solidFill>
                <a:latin typeface="Univers"/>
              </a:rPr>
              <a:t> 개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건설 현장의 자재 관리는 일반 자재 관리와는 달리 그 품목도 다양할 뿐 아니라 가설재 관리와 각종 자재 및 가설재의 현장 전용이 빈번하게 발생하므로 현장별 자재 수급 상황을 정확히 파악하여 필요한 시기에 적재 적소에 자재를 공급함으로써 공기 단축은 물론 자재의 손실이나 과투입을 막음으로 경쟁력을 재고할 수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본 자재관리 프로그램은 각종 소모자재는 물론 가설재의 발주 부터 입고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출고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전용등을 일관되게 괸리할 수 있는 건설회사 전용의 자재관리 프로그램 입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발주서 와 입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출고 내역만 입력 하면 현장별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품명별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월별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거래처별 집계를 자동으로 산출하고 자재의 현장 전용 및 가설재의 손망실 내역 까지 집계합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1.2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자재관리 시스템의 특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자재 및 가설재의 입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출고는 물론 현장전용 내역과 가설재의 손망실 내역 까지 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괄 관리 할 수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모든 입력 맟 작동에서 코드를 사용치 않고 품명만으로 사용이 가능합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가설재 및 공기구의 현장 이동 현황을 즉시 파악할 수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각 거래처 별 외상매입 현황 등의 거래처 관리도 가능합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다양한 형태의 조회 및 보고서 양식을 갖추고 있습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입출이 빈번한 현장별 자재의 재고 관리가 용이 합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가설재 전용시 환수율도 적용이 가능합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업체별 발주 내역 과 미입고 내역을 일괄 관리합니다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32920"/>
            <a:ext cx="1295640" cy="5313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제 </a:t>
            </a: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1 </a:t>
            </a: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53840" y="30780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자재 관리시스템 개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83808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685800" y="4724280"/>
          <a:ext cx="34308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724280"/>
                    <a:ext cx="343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1" name=""/>
          <p:cNvGraphicFramePr/>
          <p:nvPr/>
        </p:nvGraphicFramePr>
        <p:xfrm>
          <a:off x="685800" y="5257800"/>
          <a:ext cx="333360" cy="3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257800"/>
                    <a:ext cx="333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"/>
          <p:cNvSpPr/>
          <p:nvPr/>
        </p:nvSpPr>
        <p:spPr>
          <a:xfrm>
            <a:off x="1759320" y="472428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될 내용을 화면으로 미리 볼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626120" y="525780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회된 내용을 출력할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5"/>
          <a:stretch/>
        </p:blipFill>
        <p:spPr>
          <a:xfrm>
            <a:off x="4495680" y="2133720"/>
            <a:ext cx="2033640" cy="232416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1257120" y="1290960"/>
            <a:ext cx="97668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코드조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거래처 조회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 flipV="1">
            <a:off x="2133720" y="1905120"/>
            <a:ext cx="3504960" cy="167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066680" y="2819520"/>
            <a:ext cx="266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거래처코드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선택키를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33520" y="6019920"/>
            <a:ext cx="5790960" cy="2742840"/>
            <a:chOff x="533520" y="6019920"/>
            <a:chExt cx="5790960" cy="2742840"/>
          </a:xfrm>
        </p:grpSpPr>
        <p:sp>
          <p:nvSpPr>
            <p:cNvPr id="810" name=""/>
            <p:cNvSpPr/>
            <p:nvPr/>
          </p:nvSpPr>
          <p:spPr>
            <a:xfrm>
              <a:off x="533520" y="6019920"/>
              <a:ext cx="5790960" cy="27428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09480" y="624816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굴림"/>
                </a:rPr>
                <a:t>Me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12800" y="106668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14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출고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128960" y="1590480"/>
            <a:ext cx="159336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출고서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0880" y="6172200"/>
            <a:ext cx="6248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일자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을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 상황에 맞는 검색 화면이 뜬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5395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685800" y="4038480"/>
          <a:ext cx="34308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038480"/>
                    <a:ext cx="343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"/>
          <p:cNvGraphicFramePr/>
          <p:nvPr/>
        </p:nvGraphicFramePr>
        <p:xfrm>
          <a:off x="685800" y="4572000"/>
          <a:ext cx="333360" cy="3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572000"/>
                    <a:ext cx="333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4" name=""/>
          <p:cNvSpPr/>
          <p:nvPr/>
        </p:nvSpPr>
        <p:spPr>
          <a:xfrm>
            <a:off x="1759320" y="403848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될 내용을 화면으로 미리 볼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626120" y="457200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회된 내용을 출력할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066680" y="2819520"/>
            <a:ext cx="266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코드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선택키를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304640" y="1290960"/>
            <a:ext cx="97668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코드조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현장조회 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5"/>
          <a:stretch/>
        </p:blipFill>
        <p:spPr>
          <a:xfrm>
            <a:off x="3809880" y="1219320"/>
            <a:ext cx="2210040" cy="199044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 flipH="1" flipV="1">
            <a:off x="2557080" y="1600200"/>
            <a:ext cx="213372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533520" y="5486400"/>
            <a:ext cx="5790960" cy="3276360"/>
            <a:chOff x="533520" y="5486400"/>
            <a:chExt cx="5790960" cy="3276360"/>
          </a:xfrm>
        </p:grpSpPr>
        <p:sp>
          <p:nvSpPr>
            <p:cNvPr id="831" name=""/>
            <p:cNvSpPr/>
            <p:nvPr/>
          </p:nvSpPr>
          <p:spPr>
            <a:xfrm>
              <a:off x="533520" y="5486400"/>
              <a:ext cx="5790960" cy="3276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09480" y="575892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굴림"/>
                </a:rPr>
                <a:t>Me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8440" y="106668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15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수불현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52720" y="1590480"/>
            <a:ext cx="170028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재수불현황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0880" y="6172200"/>
            <a:ext cx="62485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을 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1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일수불과 자재수불이 있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일자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을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 상황에 맞는 검색 화면이 뜬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58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1" name=""/>
          <p:cNvGraphicFramePr/>
          <p:nvPr/>
        </p:nvGraphicFramePr>
        <p:xfrm>
          <a:off x="685800" y="4267080"/>
          <a:ext cx="34308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267080"/>
                    <a:ext cx="343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"/>
          <p:cNvGraphicFramePr/>
          <p:nvPr/>
        </p:nvGraphicFramePr>
        <p:xfrm>
          <a:off x="685800" y="4800600"/>
          <a:ext cx="333360" cy="3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800600"/>
                    <a:ext cx="333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"/>
          <p:cNvSpPr/>
          <p:nvPr/>
        </p:nvSpPr>
        <p:spPr>
          <a:xfrm>
            <a:off x="1759320" y="426708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될 내용을 화면으로 미리 볼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626120" y="480060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회된 내용을 출력할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066680" y="2819520"/>
            <a:ext cx="266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코드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선택키를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304640" y="1290960"/>
            <a:ext cx="97668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코드조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현장조회 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5"/>
          <a:stretch/>
        </p:blipFill>
        <p:spPr>
          <a:xfrm>
            <a:off x="3809880" y="1219320"/>
            <a:ext cx="2210040" cy="199044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 flipH="1" flipV="1">
            <a:off x="2557080" y="1600200"/>
            <a:ext cx="213372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533520" y="5486400"/>
            <a:ext cx="5790960" cy="3276360"/>
            <a:chOff x="533520" y="5486400"/>
            <a:chExt cx="5790960" cy="3276360"/>
          </a:xfrm>
        </p:grpSpPr>
        <p:sp>
          <p:nvSpPr>
            <p:cNvPr id="852" name=""/>
            <p:cNvSpPr/>
            <p:nvPr/>
          </p:nvSpPr>
          <p:spPr>
            <a:xfrm>
              <a:off x="533520" y="5486400"/>
              <a:ext cx="5790960" cy="3276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9480" y="575892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굴림"/>
                </a:rPr>
                <a:t>Me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34120" y="106668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16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가설재 손망실 현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082520" y="1590480"/>
            <a:ext cx="200412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가설재 손망실 현황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5562360" cy="35812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380880" y="6248520"/>
            <a:ext cx="61693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을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조건에는 일자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별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로 나누어 진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일자별일 경우 조회일자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현장별일 경우 조회일자와 현장을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자재별일 경우 조회일자와 자재인지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가설재인지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5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 상황에 맞는 검색 화면이 뜬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6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520560" y="1519560"/>
            <a:ext cx="82404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현장조회 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1676520" y="1295280"/>
          <a:ext cx="480060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4800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566360" y="1447920"/>
            <a:ext cx="315756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1219320" y="4343400"/>
          <a:ext cx="48006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343400"/>
                    <a:ext cx="4800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"/>
          <p:cNvSpPr/>
          <p:nvPr/>
        </p:nvSpPr>
        <p:spPr>
          <a:xfrm>
            <a:off x="444240" y="5023080"/>
            <a:ext cx="824040" cy="796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다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재조회 화면이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가설재 조회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761760" y="4495680"/>
            <a:ext cx="335268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5"/>
          <a:stretch/>
        </p:blipFill>
        <p:spPr>
          <a:xfrm>
            <a:off x="2286000" y="1828800"/>
            <a:ext cx="2622600" cy="236232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6"/>
          <a:stretch/>
        </p:blipFill>
        <p:spPr>
          <a:xfrm>
            <a:off x="1828800" y="5029200"/>
            <a:ext cx="2247840" cy="247644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7"/>
          <a:stretch/>
        </p:blipFill>
        <p:spPr>
          <a:xfrm>
            <a:off x="4267080" y="5029200"/>
            <a:ext cx="2175120" cy="247644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 flipH="1" flipV="1">
            <a:off x="761760" y="5333760"/>
            <a:ext cx="243828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685800" y="5486040"/>
            <a:ext cx="4648320" cy="1676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914400" y="2133360"/>
            <a:ext cx="274320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6" name=""/>
          <p:cNvGraphicFramePr/>
          <p:nvPr/>
        </p:nvGraphicFramePr>
        <p:xfrm>
          <a:off x="685800" y="7772400"/>
          <a:ext cx="343080" cy="32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7772400"/>
                    <a:ext cx="343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"/>
          <p:cNvGraphicFramePr/>
          <p:nvPr/>
        </p:nvGraphicFramePr>
        <p:xfrm>
          <a:off x="685800" y="8305920"/>
          <a:ext cx="333360" cy="314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7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5800" y="8305920"/>
                    <a:ext cx="333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"/>
          <p:cNvSpPr/>
          <p:nvPr/>
        </p:nvSpPr>
        <p:spPr>
          <a:xfrm>
            <a:off x="1759320" y="777240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될 내용을 화면으로 미리 볼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26120" y="830592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회된 내용을 출력할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26560" y="106668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17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거래처별 잔액현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107000" y="1590480"/>
            <a:ext cx="195840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거래처별 잔액현황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80880" y="6248520"/>
            <a:ext cx="616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일자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버튼을 누른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57909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4120" y="106668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4. 18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업체별 미입고 현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247760" y="1590480"/>
            <a:ext cx="204984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업체별 미입고 현황 조회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80880" y="6172200"/>
            <a:ext cx="6248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조회일자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거래처를 선택하고 검색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각의 코드를 모를 경우 코드조회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각 상황에 맞는 검색 화면이 뜬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검색이 완료되면 화면의 미리보기 버튼이나 출력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5776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602680" y="609480"/>
            <a:ext cx="105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조회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출력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85800" y="4724280"/>
          <a:ext cx="34308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724280"/>
                    <a:ext cx="343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"/>
          <p:cNvGraphicFramePr/>
          <p:nvPr/>
        </p:nvGraphicFramePr>
        <p:xfrm>
          <a:off x="685800" y="5257800"/>
          <a:ext cx="333360" cy="3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257800"/>
                    <a:ext cx="333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"/>
          <p:cNvSpPr/>
          <p:nvPr/>
        </p:nvSpPr>
        <p:spPr>
          <a:xfrm>
            <a:off x="1759320" y="472428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출력될 내용을 화면으로 미리 볼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26120" y="525780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회된 내용을 출력할 때 누른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5"/>
          <a:stretch/>
        </p:blipFill>
        <p:spPr>
          <a:xfrm>
            <a:off x="4495680" y="2133720"/>
            <a:ext cx="2033640" cy="232416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1257120" y="1290960"/>
            <a:ext cx="976680" cy="623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코드조회버튼을 누르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거래처 조회화면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열린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 flipV="1">
            <a:off x="2133720" y="1905120"/>
            <a:ext cx="3504960" cy="167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66680" y="2819520"/>
            <a:ext cx="266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거래처코드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선택키를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533520" y="6019920"/>
            <a:ext cx="5790960" cy="2742840"/>
            <a:chOff x="533520" y="6019920"/>
            <a:chExt cx="5790960" cy="2742840"/>
          </a:xfrm>
        </p:grpSpPr>
        <p:sp>
          <p:nvSpPr>
            <p:cNvPr id="907" name=""/>
            <p:cNvSpPr/>
            <p:nvPr/>
          </p:nvSpPr>
          <p:spPr>
            <a:xfrm>
              <a:off x="533520" y="6019920"/>
              <a:ext cx="5790960" cy="27428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624816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굴림"/>
                </a:rPr>
                <a:t>Me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22440" y="1219320"/>
            <a:ext cx="1936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.3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시스템 업무 흐름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45600" y="609480"/>
            <a:ext cx="87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시스템개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00440" y="2179800"/>
            <a:ext cx="1143000" cy="47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2256480"/>
            <a:ext cx="14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자재청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8560" y="3033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자재발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58560" y="38768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자재입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4952880"/>
            <a:ext cx="1447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76400" y="5105520"/>
            <a:ext cx="12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자 재 출 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4952880"/>
            <a:ext cx="137160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39240" y="510048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환 수 율 산 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33680" y="6924600"/>
            <a:ext cx="1752480" cy="4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06640" y="702936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각종 보고서 출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19400" y="2427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73400" y="2281320"/>
            <a:ext cx="108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현장에서 필요한 자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본사 자재부로 청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19400" y="32018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43160" y="307800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거래처로 자재 발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019400" y="4038120"/>
            <a:ext cx="66708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0960" y="3886200"/>
            <a:ext cx="99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현장으로 자재 입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629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2949480"/>
            <a:ext cx="1143000" cy="4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792600"/>
            <a:ext cx="1143000" cy="4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0240" y="2201760"/>
            <a:ext cx="1633320" cy="56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95840" y="2967120"/>
            <a:ext cx="1633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6480" y="3809880"/>
            <a:ext cx="16333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45720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410080"/>
            <a:ext cx="137160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4952880"/>
            <a:ext cx="137160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4960" y="545292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거래처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외상매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16360" y="509580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자 재 전 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767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4572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7991640"/>
            <a:ext cx="1523880" cy="62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8001000"/>
            <a:ext cx="1490400" cy="62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19160" y="7991640"/>
            <a:ext cx="1509840" cy="62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2360" y="7991640"/>
            <a:ext cx="1576440" cy="62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33560" y="7696080"/>
            <a:ext cx="48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48200" y="7696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28880" y="7696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76800" y="7696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38440" y="7696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9920" y="7386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6120" y="807408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현장별 거래처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자재    투입현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38240" y="8088480"/>
            <a:ext cx="14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발주대비입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명     세    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807408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현장별재고내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자재 및 가설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805968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가설재손망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명            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4038480"/>
            <a:ext cx="190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8800" y="4038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000" y="4495680"/>
            <a:ext cx="137160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560840"/>
            <a:ext cx="63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거래처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미   입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371760" y="4266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352680" y="34142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352680" y="2647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6157800"/>
            <a:ext cx="1752480" cy="4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2960" y="626256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재 고 관 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58672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4572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5867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219720"/>
            <a:ext cx="1371600" cy="4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4320" y="632448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수 불 대 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6019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948200" y="525780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"/>
          <p:cNvGrpSpPr/>
          <p:nvPr/>
        </p:nvGrpSpPr>
        <p:grpSpPr>
          <a:xfrm>
            <a:off x="438120" y="246960"/>
            <a:ext cx="6248520" cy="1632240"/>
            <a:chOff x="438120" y="246960"/>
            <a:chExt cx="6248520" cy="1632240"/>
          </a:xfrm>
        </p:grpSpPr>
        <p:grpSp>
          <p:nvGrpSpPr>
            <p:cNvPr id="910" name=""/>
            <p:cNvGrpSpPr/>
            <p:nvPr/>
          </p:nvGrpSpPr>
          <p:grpSpPr>
            <a:xfrm>
              <a:off x="517320" y="246960"/>
              <a:ext cx="1368720" cy="1632240"/>
              <a:chOff x="517320" y="246960"/>
              <a:chExt cx="1368720" cy="1632240"/>
            </a:xfrm>
          </p:grpSpPr>
          <p:sp>
            <p:nvSpPr>
              <p:cNvPr id="911" name=""/>
              <p:cNvSpPr/>
              <p:nvPr/>
            </p:nvSpPr>
            <p:spPr>
              <a:xfrm>
                <a:off x="590400" y="246960"/>
                <a:ext cx="1295640" cy="531360"/>
              </a:xfrm>
              <a:prstGeom prst="horizontalScroll">
                <a:avLst>
                  <a:gd name="adj" fmla="val 12500"/>
                </a:avLst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제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5 </a:t>
                </a:r>
                <a:r>
                  <a:rPr b="1" lang="ko-KR" sz="2000" spc="-1" strike="noStrike">
                    <a:solidFill>
                      <a:srgbClr val="3333cc"/>
                    </a:solidFill>
                    <a:latin typeface="굴림"/>
                  </a:rPr>
                  <a:t>장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17320" y="11394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17480" y="1604880"/>
                <a:ext cx="18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438120" y="85212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2109960" y="304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Univers"/>
              </a:rPr>
              <a:t>기타작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228320" y="1590480"/>
            <a:ext cx="118548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프로그램정보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 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990720" y="594360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베이스 켐프 </a:t>
            </a:r>
            <a:r>
              <a:rPr b="0" lang="en-US" sz="1200" spc="-1" strike="noStrike">
                <a:solidFill>
                  <a:srgbClr val="000000"/>
                </a:solidFill>
                <a:latin typeface="Univers"/>
              </a:rPr>
              <a:t>IV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의 버전정보등 다양한 정보를 표시하여준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919440" y="1119240"/>
            <a:ext cx="12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5. 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프로그램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3591000" cy="280044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5334120" y="2673360"/>
            <a:ext cx="1295280" cy="279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프로그램의 버전을 나타낸다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4495680" y="3048120"/>
            <a:ext cx="152424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334120" y="3587760"/>
            <a:ext cx="1295280" cy="279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뉴론데이타시스템의 연락처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4267080" y="3733560"/>
            <a:ext cx="106704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57928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타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285560" y="1590480"/>
            <a:ext cx="143028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DOS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료 변환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 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58600" y="1119240"/>
            <a:ext cx="141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5. 2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DOS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료 변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990720" y="6781680"/>
            <a:ext cx="44956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윈도우 자료로 변환하고자 할 때 쓰이는 화면이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작업일자를 선택한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료의 위치를 선택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변환작업 시작 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1285920" y="2590920"/>
            <a:ext cx="4286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>
            <a:off x="1523880" y="2852640"/>
            <a:ext cx="3810240" cy="343872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579280" y="60948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기타작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236600" y="1590480"/>
            <a:ext cx="1532520" cy="4086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정리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복구작업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 화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952920" y="1119240"/>
            <a:ext cx="15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5. 3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정리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복구작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990720" y="6781680"/>
            <a:ext cx="5029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파일정리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복구년도를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필요한 파일들을 표시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실행내역파일을 정리하고자 할 때에는 실행현장을 반드시 선택한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4) 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시작버튼을 누른다</a:t>
            </a:r>
            <a:r>
              <a:rPr b="0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60960" y="2590920"/>
            <a:ext cx="9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키보드 사용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600200"/>
            <a:ext cx="6019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자재관리 시스템에서는 사용자의 편의를 위해 여러가지 단축키와 아이콘을 제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하고있다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각각의 키와 아이콘은 시스템 전체에서 공통적인 기능을 갖는다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6800" y="990720"/>
            <a:ext cx="215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.4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키보드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아이콘 사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4520" y="291456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4800" y="3414600"/>
            <a:ext cx="38592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1040" y="3467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E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84080" y="3471840"/>
            <a:ext cx="221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현재 작업을 중단하고 전단계로 이동한다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4800" y="3948120"/>
            <a:ext cx="38592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4000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F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36280" y="4005360"/>
            <a:ext cx="250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현재 입력난과 관련된 자세한 내용을 참조한다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4800" y="4505400"/>
            <a:ext cx="38592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557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F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46000" y="4576680"/>
            <a:ext cx="22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자재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/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가설재 변환키 또는 검색키로 사용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4800" y="5038560"/>
            <a:ext cx="38592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091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F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67440" y="51055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결과를 화면으로 미리보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60000" y="609480"/>
            <a:ext cx="87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시스템개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3520" y="6934320"/>
            <a:ext cx="5790960" cy="1828800"/>
            <a:chOff x="533520" y="6934320"/>
            <a:chExt cx="5790960" cy="1828800"/>
          </a:xfrm>
        </p:grpSpPr>
        <p:sp>
          <p:nvSpPr>
            <p:cNvPr id="145" name=""/>
            <p:cNvSpPr/>
            <p:nvPr/>
          </p:nvSpPr>
          <p:spPr>
            <a:xfrm>
              <a:off x="533520" y="6934320"/>
              <a:ext cx="5790960" cy="1828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480" y="708660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굴림"/>
                </a:rPr>
                <a:t>Me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4800" y="5553000"/>
            <a:ext cx="38592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56055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F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2320" y="5619600"/>
            <a:ext cx="13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결과를 프린터로 출력한다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63840" y="1092240"/>
            <a:ext cx="95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Univers"/>
              </a:rPr>
              <a:t>아이콘 사용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4520" y="13906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63880" y="3828960"/>
            <a:ext cx="32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현재 레코드의 위치에서 한 레코드를 삽입함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이하 삽입 아이콘이라 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97560" y="4952880"/>
            <a:ext cx="25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화면에 보여지는 자료를 저장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이하 저장 아이콘이라 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61000" y="4419720"/>
            <a:ext cx="312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입력촛점이 설정된 자료를 삭제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이하 삭제 또는 취소 아이콘이라 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95400" y="6705720"/>
            <a:ext cx="27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작업을  종료하고 전상태로 이동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이하 종료 아이콘이라 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39560" y="260496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현재 레코드의 다음 위치로 이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64760" y="2209680"/>
            <a:ext cx="169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데이터의 제일 마지막 위치로 이동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57920" y="3276720"/>
            <a:ext cx="160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데이터의 제일 처음 위치로 이동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61760" y="34290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599840" y="2362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295280" y="2743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62120" y="2133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600200" y="213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295280" y="215280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83196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88440" y="609480"/>
            <a:ext cx="87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제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Univers"/>
              </a:rPr>
              <a:t>장 시스템개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09480" y="1752480"/>
          <a:ext cx="1133640" cy="3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11336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609480" y="3809880"/>
          <a:ext cx="324000" cy="3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09880"/>
                    <a:ext cx="3240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09480" y="4419720"/>
          <a:ext cx="343080" cy="3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419720"/>
                    <a:ext cx="3430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09480" y="4952880"/>
          <a:ext cx="35244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4952880"/>
                    <a:ext cx="352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609480" y="5486400"/>
          <a:ext cx="40968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5486400"/>
                    <a:ext cx="409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 flipH="1" flipV="1">
            <a:off x="1061640" y="2147400"/>
            <a:ext cx="4680" cy="90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066320" y="3047760"/>
            <a:ext cx="82404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48920" y="291456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현재 레코드의 이전</a:t>
            </a:r>
            <a:r>
              <a:rPr b="1" lang="en-US" sz="1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위치로 이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73800" y="5486400"/>
            <a:ext cx="25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화면에 보여지는 자료를 출력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이하 출력 아이콘이라 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09480" y="6095880"/>
          <a:ext cx="343080" cy="30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480" y="6095880"/>
                    <a:ext cx="3430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016360" y="6110280"/>
            <a:ext cx="30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출력될 자료를 화면에서 미리보기함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. </a:t>
            </a:r>
            <a:r>
              <a:rPr b="1" lang="ko-KR" sz="1200" spc="-1" strike="noStrike">
                <a:solidFill>
                  <a:srgbClr val="000000"/>
                </a:solidFill>
                <a:latin typeface="Univers"/>
              </a:rPr>
              <a:t>이하 미리보기 아이콘이라 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09480" y="6705720"/>
          <a:ext cx="373320" cy="314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480" y="6705720"/>
                    <a:ext cx="37332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6T02:16:58Z</dcterms:created>
  <dc:creator>이희숙</dc:creator>
  <dc:description/>
  <dc:language>en-US</dc:language>
  <cp:lastModifiedBy>박희범</cp:lastModifiedBy>
  <cp:lastPrinted>2000-03-24T08:38:40Z</cp:lastPrinted>
  <dcterms:modified xsi:type="dcterms:W3CDTF">2000-05-04T00:41:56Z</dcterms:modified>
  <cp:revision>271</cp:revision>
  <dc:subject/>
  <dc:title>슬라이드 제목 없음</dc:title>
</cp:coreProperties>
</file>